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5.wmf" ContentType="image/x-wmf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177-4437-4096-9C49-742AF12C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6A3-97D5-4490-B08B-34751085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FFF-7532-4685-8254-D0E98CE2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6533-EB61-4C90-A4E3-B9759816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D8B-F3B4-481D-AAEE-EB8A2C30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BA9-61EC-44EA-8BFA-05240D14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CC4-5131-40B8-8F59-4B49ACDD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2DF-D10F-429A-8321-C0C1FAFB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FF0-C26A-4A49-B364-696A72F1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E6E-61D2-4DB1-9276-C6126ABC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329-D908-43FD-90C7-B0D5935C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21C-0073-4ADC-8F2A-112EC635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Informationssysteme SS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C7817A8C-01EF-4AB0-AE88-44918E92E5C8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8600"/>
            <a:ext cx="8534160" cy="1066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Kapitel 2: Suchmaschinentechnologie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 für Intranets und das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1981080"/>
            <a:ext cx="575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2.1 Information-Retrieval-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2.2 Web-Crawling und Index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2.3 Vektorraummodell für IR mit Ra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2.4 Anfrageausführung mit Ra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2.5 Grundlagen aus der Linearen Alg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2.6 Latent Semantic Ind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D82-1F45-4EA4-BF6E-67B25D3A8A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2.2 Web-Crawling und Indexi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240" y="1413000"/>
            <a:ext cx="853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RL Queue Serve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verwaltet Priority-Queue (noch) z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versierender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rawler (Robot, Spider):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lt Dokumente unter Beach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n Nebenbedingungen (Filetyp, Robot Exclusion Protocol, us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epository Server: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waltet Document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ndexer (inkl. Parser, Stemmer)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nalysiert Dokumente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zeugt Einträge in Lexicon, Anchors und Document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RL Resolver: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übersetzt URLs in Do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ink Analyzer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berechnet Autoritäts-Ranking aufgrund von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Query Processor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ertet Anfragen durch Index-Lookups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berechnet Resultats-Ra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3440" y="765000"/>
            <a:ext cx="62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Komponenten einer Web-Suchmasch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66D-90B1-49E7-B61F-A925152E4E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enstrukturen einer Web-Suchmas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2200" y="765000"/>
            <a:ext cx="7085880" cy="57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ocumentRepository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(DocId, DocCont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e (HTML-) Dokumente in komprimierter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exicon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(TermId, Term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e vorkommenden Stammformen jeweils mit Term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ocumenIndex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(DocId, TermId, Weight, ...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e Vorkommen von Termen in Dokumen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ptimiert für Zugriff nach Do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rmIndex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(TermId, DocId, Weight, ...)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e Dokumente zu allen Term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ptimiert für Zugriff nach Term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nchors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(SourceDocId,  TargetDocId, AnchorText)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e Hyper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RLIndex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(URL, DocId)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setzung von URLs auf interne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C28-BE47-4B9C-B49C-49B03620FC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657600" y="3352680"/>
            <a:ext cx="9907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3505320"/>
            <a:ext cx="990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362320"/>
            <a:ext cx="1676520" cy="3962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2590920"/>
            <a:ext cx="1143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6520" y="2743200"/>
            <a:ext cx="1143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chitektur eines skalierbaren Crawl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-1904760" y="3047400"/>
            <a:ext cx="5181480" cy="914400"/>
          </a:xfrm>
          <a:prstGeom prst="cloudCallout">
            <a:avLst>
              <a:gd name="adj1" fmla="val -6250"/>
              <a:gd name="adj2" fmla="val 199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917640"/>
            <a:ext cx="12952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914400"/>
            <a:ext cx="10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&amp;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2895480"/>
            <a:ext cx="1143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77600" y="31240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989520"/>
            <a:ext cx="1143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4141800"/>
            <a:ext cx="1143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3560" y="44197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1974600" y="49600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-131040" y="317916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57400" y="1828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941400"/>
            <a:ext cx="12193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4480" y="990720"/>
            <a:ext cx="9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ee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2440" y="5486400"/>
            <a:ext cx="113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otocol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29200" y="2362320"/>
            <a:ext cx="1676520" cy="3962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2590920"/>
            <a:ext cx="1143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2743200"/>
            <a:ext cx="1143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2895480"/>
            <a:ext cx="1143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080" y="3048120"/>
            <a:ext cx="112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xtr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3989520"/>
            <a:ext cx="1143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4141800"/>
            <a:ext cx="1143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4191120"/>
            <a:ext cx="109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632200" y="49600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80400" y="5486400"/>
            <a:ext cx="148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IME-typ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3684600"/>
            <a:ext cx="9907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9720" y="3733920"/>
            <a:ext cx="96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ad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32767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4572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819520" y="4114800"/>
            <a:ext cx="53316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3124080"/>
            <a:ext cx="3808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48320" y="3428640"/>
            <a:ext cx="5331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3886200"/>
            <a:ext cx="53316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43400" y="1676520"/>
            <a:ext cx="914400" cy="167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238880" y="4599000"/>
            <a:ext cx="12193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15560" y="4648320"/>
            <a:ext cx="73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238880" y="3303720"/>
            <a:ext cx="121932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5560" y="3352680"/>
            <a:ext cx="8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1806480"/>
            <a:ext cx="1219320" cy="963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14840" y="190512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35053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7772400" y="4038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777240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4" idx="0"/>
            <a:endCxn id="270" idx="0"/>
          </p:cNvCxnSpPr>
          <p:nvPr/>
        </p:nvCxnSpPr>
        <p:spPr>
          <a:xfrm rot="5400000">
            <a:off x="5044320" y="-441360"/>
            <a:ext cx="556560" cy="5052240"/>
          </a:xfrm>
          <a:prstGeom prst="curvedConnector5">
            <a:avLst>
              <a:gd name="adj1" fmla="val -216245"/>
              <a:gd name="adj2" fmla="val 49996"/>
              <a:gd name="adj3" fmla="val -21624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2668680" y="23623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5B8-C85D-4724-A84C-FE9D8BFB40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mensionen sehr großer Web-Suchmasch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5040" y="762120"/>
            <a:ext cx="707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gt; 4 Mrd. Web-Dokumente + 1 Mrd. News-Doku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gt; 20 Terabytes Roh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gt; 10 Mio. Te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gt; 4 Terabytes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gt; 150 Mio. Anfragen pro Werk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 1 Sek. mittlere Antwortz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 30 Tage Indexaktua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gt; 1000 Webseiten pro Sek. Craw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400" y="4038480"/>
            <a:ext cx="85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igh-End-Server-Fa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gt; 10 000 Intel-Server mit jewe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gt; 1 GB Hauptspeicher, 2 Platten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rtitionierten, gespiegelten Daten, die über alle Server verteilt s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owie Lastbalancierung der Queries, Remote-Administration, us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185-311E-42AE-B590-5CCB08992B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2.3 Vektorraummodell für IR mit Ra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6240" y="857160"/>
            <a:ext cx="86673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Grundprinzipi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eaturerau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Wörter in Dokumenten werden auf Terme reduz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okumentenmodell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Jedes Dokument di wird als Vektor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[0,1]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|F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präsentiert, wobei dij das Gewicht des j-ten Terms in di angib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nfragemodell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nfragen sind Vektoren q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[0,1]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|F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elevanz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uchresultatsranking basiert auf ei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Ähnlichkeitsfunktion im Vektorraum [0,1]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|F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rawling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as Web wird entlang von Hyperlinks traversier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okumente zu analyiseren und zu indexi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ndexierung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Zu jedem Term wird eine Liste von Dokumenten-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z.B. URLs) mit dem jeweiligen Gewicht in ein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vertierten File“ (Suchbaum oder Hash-File) angele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nfrageverarbeitung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nfragen werden zerlegt in Index-Looku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Einzelterme, um Trefferkandidatenlisten zu bestim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45D-89A8-4B30-A81C-C4F5107763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0" y="609480"/>
            <a:ext cx="2819160" cy="1067040"/>
            <a:chOff x="0" y="609480"/>
            <a:chExt cx="2819160" cy="1067040"/>
          </a:xfrm>
        </p:grpSpPr>
        <p:sp>
          <p:nvSpPr>
            <p:cNvPr id="277" name=""/>
            <p:cNvSpPr/>
            <p:nvPr/>
          </p:nvSpPr>
          <p:spPr>
            <a:xfrm>
              <a:off x="0" y="609480"/>
              <a:ext cx="2648520" cy="106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685800"/>
              <a:ext cx="28191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Rangliste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, n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fallender 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Relevan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(Ranked Retrieva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209680" y="1447920"/>
            <a:ext cx="3810240" cy="2590560"/>
          </a:xfrm>
          <a:prstGeom prst="cloudCallout">
            <a:avLst>
              <a:gd name="adj1" fmla="val -35750"/>
              <a:gd name="adj2" fmla="val 4185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09480" y="1798560"/>
            <a:ext cx="381240" cy="914040"/>
            <a:chOff x="609480" y="1798560"/>
            <a:chExt cx="381240" cy="914040"/>
          </a:xfrm>
        </p:grpSpPr>
        <p:sp>
          <p:nvSpPr>
            <p:cNvPr id="281" name=""/>
            <p:cNvSpPr/>
            <p:nvPr/>
          </p:nvSpPr>
          <p:spPr>
            <a:xfrm flipH="1">
              <a:off x="640440" y="1798560"/>
              <a:ext cx="317880" cy="281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99920" y="2079720"/>
              <a:ext cx="0" cy="35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9480" y="2431440"/>
              <a:ext cx="190440" cy="28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0280" y="2431440"/>
              <a:ext cx="126720" cy="28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609480" y="2220120"/>
              <a:ext cx="190440" cy="7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800280" y="2220120"/>
              <a:ext cx="190440" cy="7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57200" y="1874880"/>
            <a:ext cx="381240" cy="914040"/>
            <a:chOff x="457200" y="1874880"/>
            <a:chExt cx="381240" cy="914040"/>
          </a:xfrm>
        </p:grpSpPr>
        <p:sp>
          <p:nvSpPr>
            <p:cNvPr id="288" name=""/>
            <p:cNvSpPr/>
            <p:nvPr/>
          </p:nvSpPr>
          <p:spPr>
            <a:xfrm flipH="1">
              <a:off x="488880" y="1874880"/>
              <a:ext cx="317520" cy="281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7640" y="2156040"/>
              <a:ext cx="0" cy="35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457200" y="2507760"/>
              <a:ext cx="190440" cy="28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8000" y="2507760"/>
              <a:ext cx="126720" cy="28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57200" y="2296440"/>
              <a:ext cx="190440" cy="7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48000" y="2296440"/>
              <a:ext cx="190440" cy="7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ktorraummodell für Relevanz-Ra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04920" y="1951200"/>
            <a:ext cx="381240" cy="914040"/>
            <a:chOff x="304920" y="1951200"/>
            <a:chExt cx="381240" cy="914040"/>
          </a:xfrm>
        </p:grpSpPr>
        <p:sp>
          <p:nvSpPr>
            <p:cNvPr id="296" name=""/>
            <p:cNvSpPr/>
            <p:nvPr/>
          </p:nvSpPr>
          <p:spPr>
            <a:xfrm flipH="1">
              <a:off x="336600" y="1951200"/>
              <a:ext cx="317520" cy="281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5360" y="2232360"/>
              <a:ext cx="0" cy="35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304920" y="2584080"/>
              <a:ext cx="190440" cy="28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5720" y="2584080"/>
              <a:ext cx="126720" cy="28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304920" y="2372760"/>
              <a:ext cx="190440" cy="7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95720" y="2372760"/>
              <a:ext cx="190440" cy="7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133720" y="3200400"/>
            <a:ext cx="990360" cy="762120"/>
          </a:xfrm>
          <a:prstGeom prst="flowChartMagneticDisk">
            <a:avLst/>
          </a:prstGeom>
          <a:solidFill>
            <a:srgbClr val="99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2743200"/>
            <a:ext cx="990720" cy="762120"/>
          </a:xfrm>
          <a:prstGeom prst="flowChartMagneticDisk">
            <a:avLst/>
          </a:prstGeom>
          <a:solidFill>
            <a:srgbClr val="99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048120"/>
            <a:ext cx="990720" cy="761760"/>
          </a:xfrm>
          <a:prstGeom prst="flowChartMagneticDisk">
            <a:avLst/>
          </a:prstGeom>
          <a:solidFill>
            <a:srgbClr val="99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38680" y="3429000"/>
            <a:ext cx="2286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3581280"/>
            <a:ext cx="228600" cy="228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3505320"/>
            <a:ext cx="228600" cy="228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33920" y="3048120"/>
            <a:ext cx="228600" cy="228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3352680"/>
            <a:ext cx="228600" cy="2286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20960" y="144792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chmas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2789280"/>
            <a:ext cx="2029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wicht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-Fe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24480" y="3855960"/>
                <a:ext cx="1359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6172560" y="3124080"/>
            <a:ext cx="2518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kumente s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ature-Vek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90720" y="2743200"/>
                <a:ext cx="12445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 flipH="1">
            <a:off x="2514600" y="1143000"/>
            <a:ext cx="18288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971800" y="1295280"/>
            <a:ext cx="137160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505320" y="1447920"/>
            <a:ext cx="838080" cy="0"/>
          </a:xfrm>
          <a:prstGeom prst="line">
            <a:avLst/>
          </a:prstGeom>
          <a:ln w="2844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19320" y="1905120"/>
            <a:ext cx="2819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267080" y="838080"/>
            <a:ext cx="966240" cy="1199880"/>
            <a:chOff x="4267080" y="838080"/>
            <a:chExt cx="966240" cy="1199880"/>
          </a:xfrm>
        </p:grpSpPr>
        <p:grpSp>
          <p:nvGrpSpPr>
            <p:cNvPr id="320" name=""/>
            <p:cNvGrpSpPr/>
            <p:nvPr/>
          </p:nvGrpSpPr>
          <p:grpSpPr>
            <a:xfrm>
              <a:off x="4282200" y="846360"/>
              <a:ext cx="804240" cy="720000"/>
              <a:chOff x="4282200" y="846360"/>
              <a:chExt cx="804240" cy="72000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4282200" y="846360"/>
                <a:ext cx="804240" cy="720000"/>
                <a:chOff x="4282200" y="846360"/>
                <a:chExt cx="804240" cy="7200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4282200" y="846360"/>
                  <a:ext cx="682920" cy="418680"/>
                </a:xfrm>
                <a:custGeom>
                  <a:avLst/>
                  <a:gdLst/>
                  <a:ahLst/>
                  <a:rect l="l" t="t" r="r" b="b"/>
                  <a:pathLst>
                    <a:path w="1004" h="685">
                      <a:moveTo>
                        <a:pt x="21" y="685"/>
                      </a:moveTo>
                      <a:lnTo>
                        <a:pt x="6" y="604"/>
                      </a:lnTo>
                      <a:lnTo>
                        <a:pt x="0" y="526"/>
                      </a:lnTo>
                      <a:lnTo>
                        <a:pt x="3" y="472"/>
                      </a:lnTo>
                      <a:lnTo>
                        <a:pt x="12" y="423"/>
                      </a:lnTo>
                      <a:lnTo>
                        <a:pt x="27" y="369"/>
                      </a:lnTo>
                      <a:lnTo>
                        <a:pt x="51" y="315"/>
                      </a:lnTo>
                      <a:lnTo>
                        <a:pt x="81" y="258"/>
                      </a:lnTo>
                      <a:lnTo>
                        <a:pt x="111" y="213"/>
                      </a:lnTo>
                      <a:lnTo>
                        <a:pt x="147" y="168"/>
                      </a:lnTo>
                      <a:lnTo>
                        <a:pt x="189" y="129"/>
                      </a:lnTo>
                      <a:lnTo>
                        <a:pt x="231" y="96"/>
                      </a:lnTo>
                      <a:lnTo>
                        <a:pt x="276" y="69"/>
                      </a:lnTo>
                      <a:lnTo>
                        <a:pt x="331" y="45"/>
                      </a:lnTo>
                      <a:lnTo>
                        <a:pt x="394" y="24"/>
                      </a:lnTo>
                      <a:lnTo>
                        <a:pt x="448" y="9"/>
                      </a:lnTo>
                      <a:lnTo>
                        <a:pt x="514" y="0"/>
                      </a:lnTo>
                      <a:lnTo>
                        <a:pt x="598" y="0"/>
                      </a:lnTo>
                      <a:lnTo>
                        <a:pt x="661" y="12"/>
                      </a:lnTo>
                      <a:lnTo>
                        <a:pt x="737" y="30"/>
                      </a:lnTo>
                      <a:lnTo>
                        <a:pt x="812" y="63"/>
                      </a:lnTo>
                      <a:lnTo>
                        <a:pt x="878" y="102"/>
                      </a:lnTo>
                      <a:lnTo>
                        <a:pt x="923" y="141"/>
                      </a:lnTo>
                      <a:lnTo>
                        <a:pt x="968" y="186"/>
                      </a:lnTo>
                      <a:lnTo>
                        <a:pt x="1004" y="231"/>
                      </a:lnTo>
                      <a:lnTo>
                        <a:pt x="908" y="159"/>
                      </a:lnTo>
                      <a:lnTo>
                        <a:pt x="857" y="129"/>
                      </a:lnTo>
                      <a:lnTo>
                        <a:pt x="803" y="108"/>
                      </a:lnTo>
                      <a:lnTo>
                        <a:pt x="734" y="87"/>
                      </a:lnTo>
                      <a:lnTo>
                        <a:pt x="667" y="78"/>
                      </a:lnTo>
                      <a:lnTo>
                        <a:pt x="595" y="75"/>
                      </a:lnTo>
                      <a:lnTo>
                        <a:pt x="541" y="78"/>
                      </a:lnTo>
                      <a:lnTo>
                        <a:pt x="484" y="87"/>
                      </a:lnTo>
                      <a:lnTo>
                        <a:pt x="427" y="102"/>
                      </a:lnTo>
                      <a:lnTo>
                        <a:pt x="373" y="120"/>
                      </a:lnTo>
                      <a:lnTo>
                        <a:pt x="313" y="150"/>
                      </a:lnTo>
                      <a:lnTo>
                        <a:pt x="267" y="177"/>
                      </a:lnTo>
                      <a:lnTo>
                        <a:pt x="228" y="210"/>
                      </a:lnTo>
                      <a:lnTo>
                        <a:pt x="183" y="246"/>
                      </a:lnTo>
                      <a:lnTo>
                        <a:pt x="147" y="285"/>
                      </a:lnTo>
                      <a:lnTo>
                        <a:pt x="111" y="339"/>
                      </a:lnTo>
                      <a:lnTo>
                        <a:pt x="78" y="396"/>
                      </a:lnTo>
                      <a:lnTo>
                        <a:pt x="57" y="450"/>
                      </a:lnTo>
                      <a:lnTo>
                        <a:pt x="39" y="514"/>
                      </a:lnTo>
                      <a:lnTo>
                        <a:pt x="27" y="592"/>
                      </a:lnTo>
                      <a:lnTo>
                        <a:pt x="21" y="68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332600" y="1053720"/>
                  <a:ext cx="753840" cy="512640"/>
                </a:xfrm>
                <a:custGeom>
                  <a:avLst/>
                  <a:gdLst/>
                  <a:ahLst/>
                  <a:rect l="l" t="t" r="r" b="b"/>
                  <a:pathLst>
                    <a:path w="1107" h="842">
                      <a:moveTo>
                        <a:pt x="0" y="511"/>
                      </a:moveTo>
                      <a:lnTo>
                        <a:pt x="63" y="583"/>
                      </a:lnTo>
                      <a:lnTo>
                        <a:pt x="132" y="647"/>
                      </a:lnTo>
                      <a:lnTo>
                        <a:pt x="195" y="683"/>
                      </a:lnTo>
                      <a:lnTo>
                        <a:pt x="286" y="722"/>
                      </a:lnTo>
                      <a:lnTo>
                        <a:pt x="358" y="743"/>
                      </a:lnTo>
                      <a:lnTo>
                        <a:pt x="424" y="752"/>
                      </a:lnTo>
                      <a:lnTo>
                        <a:pt x="502" y="752"/>
                      </a:lnTo>
                      <a:lnTo>
                        <a:pt x="559" y="746"/>
                      </a:lnTo>
                      <a:lnTo>
                        <a:pt x="629" y="734"/>
                      </a:lnTo>
                      <a:lnTo>
                        <a:pt x="698" y="713"/>
                      </a:lnTo>
                      <a:lnTo>
                        <a:pt x="755" y="683"/>
                      </a:lnTo>
                      <a:lnTo>
                        <a:pt x="809" y="650"/>
                      </a:lnTo>
                      <a:lnTo>
                        <a:pt x="857" y="616"/>
                      </a:lnTo>
                      <a:lnTo>
                        <a:pt x="905" y="568"/>
                      </a:lnTo>
                      <a:lnTo>
                        <a:pt x="953" y="514"/>
                      </a:lnTo>
                      <a:lnTo>
                        <a:pt x="990" y="463"/>
                      </a:lnTo>
                      <a:lnTo>
                        <a:pt x="1011" y="412"/>
                      </a:lnTo>
                      <a:lnTo>
                        <a:pt x="1038" y="331"/>
                      </a:lnTo>
                      <a:lnTo>
                        <a:pt x="1056" y="247"/>
                      </a:lnTo>
                      <a:lnTo>
                        <a:pt x="1059" y="172"/>
                      </a:lnTo>
                      <a:lnTo>
                        <a:pt x="1047" y="90"/>
                      </a:lnTo>
                      <a:lnTo>
                        <a:pt x="1020" y="0"/>
                      </a:lnTo>
                      <a:lnTo>
                        <a:pt x="1047" y="48"/>
                      </a:lnTo>
                      <a:lnTo>
                        <a:pt x="1077" y="117"/>
                      </a:lnTo>
                      <a:lnTo>
                        <a:pt x="1092" y="181"/>
                      </a:lnTo>
                      <a:lnTo>
                        <a:pt x="1107" y="241"/>
                      </a:lnTo>
                      <a:lnTo>
                        <a:pt x="1104" y="292"/>
                      </a:lnTo>
                      <a:lnTo>
                        <a:pt x="1101" y="361"/>
                      </a:lnTo>
                      <a:lnTo>
                        <a:pt x="1065" y="493"/>
                      </a:lnTo>
                      <a:lnTo>
                        <a:pt x="1029" y="565"/>
                      </a:lnTo>
                      <a:lnTo>
                        <a:pt x="984" y="629"/>
                      </a:lnTo>
                      <a:lnTo>
                        <a:pt x="935" y="683"/>
                      </a:lnTo>
                      <a:lnTo>
                        <a:pt x="887" y="722"/>
                      </a:lnTo>
                      <a:lnTo>
                        <a:pt x="821" y="767"/>
                      </a:lnTo>
                      <a:lnTo>
                        <a:pt x="755" y="797"/>
                      </a:lnTo>
                      <a:lnTo>
                        <a:pt x="692" y="818"/>
                      </a:lnTo>
                      <a:lnTo>
                        <a:pt x="611" y="839"/>
                      </a:lnTo>
                      <a:lnTo>
                        <a:pt x="550" y="842"/>
                      </a:lnTo>
                      <a:lnTo>
                        <a:pt x="484" y="842"/>
                      </a:lnTo>
                      <a:lnTo>
                        <a:pt x="418" y="830"/>
                      </a:lnTo>
                      <a:lnTo>
                        <a:pt x="346" y="815"/>
                      </a:lnTo>
                      <a:lnTo>
                        <a:pt x="298" y="797"/>
                      </a:lnTo>
                      <a:lnTo>
                        <a:pt x="234" y="764"/>
                      </a:lnTo>
                      <a:lnTo>
                        <a:pt x="180" y="734"/>
                      </a:lnTo>
                      <a:lnTo>
                        <a:pt x="129" y="692"/>
                      </a:lnTo>
                      <a:lnTo>
                        <a:pt x="75" y="635"/>
                      </a:lnTo>
                      <a:lnTo>
                        <a:pt x="24" y="562"/>
                      </a:lnTo>
                      <a:lnTo>
                        <a:pt x="0" y="51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4286160" y="856080"/>
                <a:ext cx="798480" cy="679320"/>
                <a:chOff x="4286160" y="856080"/>
                <a:chExt cx="798480" cy="6793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330800" y="1365840"/>
                  <a:ext cx="196200" cy="169560"/>
                </a:xfrm>
                <a:custGeom>
                  <a:avLst/>
                  <a:gdLst/>
                  <a:ahLst/>
                  <a:rect l="l" t="t" r="r" b="b"/>
                  <a:pathLst>
                    <a:path w="287" h="279">
                      <a:moveTo>
                        <a:pt x="0" y="0"/>
                      </a:moveTo>
                      <a:lnTo>
                        <a:pt x="30" y="56"/>
                      </a:lnTo>
                      <a:lnTo>
                        <a:pt x="59" y="99"/>
                      </a:lnTo>
                      <a:lnTo>
                        <a:pt x="90" y="139"/>
                      </a:lnTo>
                      <a:lnTo>
                        <a:pt x="138" y="186"/>
                      </a:lnTo>
                      <a:lnTo>
                        <a:pt x="174" y="216"/>
                      </a:lnTo>
                      <a:lnTo>
                        <a:pt x="220" y="245"/>
                      </a:lnTo>
                      <a:lnTo>
                        <a:pt x="287" y="279"/>
                      </a:lnTo>
                      <a:lnTo>
                        <a:pt x="212" y="177"/>
                      </a:lnTo>
                      <a:lnTo>
                        <a:pt x="170" y="153"/>
                      </a:lnTo>
                      <a:lnTo>
                        <a:pt x="140" y="132"/>
                      </a:lnTo>
                      <a:lnTo>
                        <a:pt x="96" y="101"/>
                      </a:lnTo>
                      <a:lnTo>
                        <a:pt x="62" y="69"/>
                      </a:lnTo>
                      <a:lnTo>
                        <a:pt x="35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015160" y="1049760"/>
                  <a:ext cx="69480" cy="333000"/>
                </a:xfrm>
                <a:custGeom>
                  <a:avLst/>
                  <a:gdLst/>
                  <a:ahLst/>
                  <a:rect l="l" t="t" r="r" b="b"/>
                  <a:pathLst>
                    <a:path w="103" h="546">
                      <a:moveTo>
                        <a:pt x="19" y="0"/>
                      </a:moveTo>
                      <a:lnTo>
                        <a:pt x="39" y="37"/>
                      </a:lnTo>
                      <a:lnTo>
                        <a:pt x="52" y="69"/>
                      </a:lnTo>
                      <a:lnTo>
                        <a:pt x="66" y="102"/>
                      </a:lnTo>
                      <a:lnTo>
                        <a:pt x="76" y="134"/>
                      </a:lnTo>
                      <a:lnTo>
                        <a:pt x="84" y="164"/>
                      </a:lnTo>
                      <a:lnTo>
                        <a:pt x="99" y="217"/>
                      </a:lnTo>
                      <a:lnTo>
                        <a:pt x="103" y="269"/>
                      </a:lnTo>
                      <a:lnTo>
                        <a:pt x="100" y="349"/>
                      </a:lnTo>
                      <a:lnTo>
                        <a:pt x="93" y="403"/>
                      </a:lnTo>
                      <a:lnTo>
                        <a:pt x="82" y="447"/>
                      </a:lnTo>
                      <a:lnTo>
                        <a:pt x="65" y="493"/>
                      </a:lnTo>
                      <a:lnTo>
                        <a:pt x="42" y="546"/>
                      </a:lnTo>
                      <a:lnTo>
                        <a:pt x="0" y="443"/>
                      </a:lnTo>
                      <a:lnTo>
                        <a:pt x="19" y="398"/>
                      </a:lnTo>
                      <a:lnTo>
                        <a:pt x="28" y="374"/>
                      </a:lnTo>
                      <a:lnTo>
                        <a:pt x="39" y="343"/>
                      </a:lnTo>
                      <a:lnTo>
                        <a:pt x="46" y="311"/>
                      </a:lnTo>
                      <a:lnTo>
                        <a:pt x="52" y="262"/>
                      </a:lnTo>
                      <a:lnTo>
                        <a:pt x="55" y="221"/>
                      </a:lnTo>
                      <a:lnTo>
                        <a:pt x="55" y="160"/>
                      </a:lnTo>
                      <a:lnTo>
                        <a:pt x="46" y="105"/>
                      </a:lnTo>
                      <a:lnTo>
                        <a:pt x="36" y="60"/>
                      </a:lnTo>
                      <a:lnTo>
                        <a:pt x="30" y="36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648680" y="856080"/>
                  <a:ext cx="277920" cy="101160"/>
                </a:xfrm>
                <a:custGeom>
                  <a:avLst/>
                  <a:gdLst/>
                  <a:ahLst/>
                  <a:rect l="l" t="t" r="r" b="b"/>
                  <a:pathLst>
                    <a:path w="409" h="165">
                      <a:moveTo>
                        <a:pt x="0" y="0"/>
                      </a:moveTo>
                      <a:lnTo>
                        <a:pt x="31" y="60"/>
                      </a:lnTo>
                      <a:lnTo>
                        <a:pt x="79" y="57"/>
                      </a:lnTo>
                      <a:lnTo>
                        <a:pt x="123" y="60"/>
                      </a:lnTo>
                      <a:lnTo>
                        <a:pt x="165" y="66"/>
                      </a:lnTo>
                      <a:lnTo>
                        <a:pt x="203" y="73"/>
                      </a:lnTo>
                      <a:lnTo>
                        <a:pt x="241" y="83"/>
                      </a:lnTo>
                      <a:lnTo>
                        <a:pt x="267" y="91"/>
                      </a:lnTo>
                      <a:lnTo>
                        <a:pt x="301" y="105"/>
                      </a:lnTo>
                      <a:lnTo>
                        <a:pt x="340" y="124"/>
                      </a:lnTo>
                      <a:lnTo>
                        <a:pt x="409" y="165"/>
                      </a:lnTo>
                      <a:lnTo>
                        <a:pt x="369" y="123"/>
                      </a:lnTo>
                      <a:lnTo>
                        <a:pt x="341" y="102"/>
                      </a:lnTo>
                      <a:lnTo>
                        <a:pt x="304" y="78"/>
                      </a:lnTo>
                      <a:lnTo>
                        <a:pt x="281" y="64"/>
                      </a:lnTo>
                      <a:lnTo>
                        <a:pt x="230" y="40"/>
                      </a:lnTo>
                      <a:lnTo>
                        <a:pt x="197" y="28"/>
                      </a:lnTo>
                      <a:lnTo>
                        <a:pt x="170" y="19"/>
                      </a:lnTo>
                      <a:lnTo>
                        <a:pt x="145" y="13"/>
                      </a:lnTo>
                      <a:lnTo>
                        <a:pt x="105" y="6"/>
                      </a:lnTo>
                      <a:lnTo>
                        <a:pt x="64" y="1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286160" y="997200"/>
                  <a:ext cx="88560" cy="236880"/>
                </a:xfrm>
                <a:custGeom>
                  <a:avLst/>
                  <a:gdLst/>
                  <a:ahLst/>
                  <a:rect l="l" t="t" r="r" b="b"/>
                  <a:pathLst>
                    <a:path w="130" h="387">
                      <a:moveTo>
                        <a:pt x="0" y="297"/>
                      </a:moveTo>
                      <a:lnTo>
                        <a:pt x="3" y="267"/>
                      </a:lnTo>
                      <a:lnTo>
                        <a:pt x="5" y="234"/>
                      </a:lnTo>
                      <a:lnTo>
                        <a:pt x="14" y="181"/>
                      </a:lnTo>
                      <a:lnTo>
                        <a:pt x="24" y="139"/>
                      </a:lnTo>
                      <a:lnTo>
                        <a:pt x="38" y="101"/>
                      </a:lnTo>
                      <a:lnTo>
                        <a:pt x="56" y="62"/>
                      </a:lnTo>
                      <a:lnTo>
                        <a:pt x="72" y="32"/>
                      </a:lnTo>
                      <a:lnTo>
                        <a:pt x="92" y="0"/>
                      </a:lnTo>
                      <a:lnTo>
                        <a:pt x="130" y="50"/>
                      </a:lnTo>
                      <a:lnTo>
                        <a:pt x="108" y="80"/>
                      </a:lnTo>
                      <a:lnTo>
                        <a:pt x="92" y="107"/>
                      </a:lnTo>
                      <a:lnTo>
                        <a:pt x="79" y="132"/>
                      </a:lnTo>
                      <a:lnTo>
                        <a:pt x="60" y="167"/>
                      </a:lnTo>
                      <a:lnTo>
                        <a:pt x="48" y="198"/>
                      </a:lnTo>
                      <a:lnTo>
                        <a:pt x="41" y="228"/>
                      </a:lnTo>
                      <a:lnTo>
                        <a:pt x="32" y="258"/>
                      </a:lnTo>
                      <a:lnTo>
                        <a:pt x="26" y="291"/>
                      </a:lnTo>
                      <a:lnTo>
                        <a:pt x="21" y="331"/>
                      </a:lnTo>
                      <a:lnTo>
                        <a:pt x="17" y="371"/>
                      </a:lnTo>
                      <a:lnTo>
                        <a:pt x="10" y="387"/>
                      </a:lnTo>
                      <a:lnTo>
                        <a:pt x="0" y="29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" name=""/>
            <p:cNvGrpSpPr/>
            <p:nvPr/>
          </p:nvGrpSpPr>
          <p:grpSpPr>
            <a:xfrm>
              <a:off x="4267080" y="838080"/>
              <a:ext cx="786960" cy="675000"/>
              <a:chOff x="4267080" y="838080"/>
              <a:chExt cx="786960" cy="675000"/>
            </a:xfrm>
          </p:grpSpPr>
          <p:sp>
            <p:nvSpPr>
              <p:cNvPr id="330" name=""/>
              <p:cNvSpPr/>
              <p:nvPr/>
            </p:nvSpPr>
            <p:spPr>
              <a:xfrm>
                <a:off x="4275360" y="847440"/>
                <a:ext cx="768960" cy="65808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1680">
                <a:solidFill>
                  <a:srgbClr val="9f9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267080" y="838080"/>
                <a:ext cx="786960" cy="6750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288680" y="856080"/>
                <a:ext cx="743040" cy="63828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4830120" y="1474200"/>
              <a:ext cx="403200" cy="563760"/>
              <a:chOff x="4830120" y="1474200"/>
              <a:chExt cx="403200" cy="563760"/>
            </a:xfrm>
          </p:grpSpPr>
          <p:sp>
            <p:nvSpPr>
              <p:cNvPr id="334" name=""/>
              <p:cNvSpPr/>
              <p:nvPr/>
            </p:nvSpPr>
            <p:spPr>
              <a:xfrm>
                <a:off x="4834440" y="1503360"/>
                <a:ext cx="384120" cy="49320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31560" y="1474200"/>
                <a:ext cx="117720" cy="10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64" y="13933"/>
                    </a:moveTo>
                    <a:arcTo wR="10800" hR="10800" stAng="9788164" swAng="107767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64" y="13933"/>
                    </a:moveTo>
                    <a:arcTo wR="10800" hR="10800" stAng="9788164" swAng="10776769"/>
                  </a:path>
                </a:pathLst>
              </a:custGeom>
              <a:solidFill>
                <a:srgbClr val="5f3f1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834440" y="1481400"/>
                <a:ext cx="120960" cy="108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19"/>
                    </a:moveTo>
                    <a:arcTo wR="10800" hR="10800" stAng="10411015" swAng="100577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19"/>
                    </a:moveTo>
                    <a:arcTo wR="10800" hR="10800" stAng="10411015" swAng="10057795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830120" y="1481400"/>
                <a:ext cx="73440" cy="12672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831560" y="1474560"/>
                <a:ext cx="119160" cy="99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94" y="13691"/>
                    </a:moveTo>
                    <a:arcTo wR="10800" hR="10800" stAng="9868244" swAng="50330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94" y="13691"/>
                    </a:moveTo>
                    <a:arcTo wR="10800" hR="10800" stAng="9868244" swAng="5033004"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73680" y="1543680"/>
                <a:ext cx="119520" cy="99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36" y="13474"/>
                    </a:moveTo>
                    <a:arcTo wR="10800" hR="10800" stAng="9939998" swAng="106137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36" y="13474"/>
                    </a:moveTo>
                    <a:arcTo wR="10800" hR="10800" stAng="9939998" swAng="10613755"/>
                  </a:path>
                </a:pathLst>
              </a:custGeom>
              <a:solidFill>
                <a:srgbClr val="7f3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4878000" y="1553400"/>
                <a:ext cx="125280" cy="110160"/>
                <a:chOff x="4878000" y="1553400"/>
                <a:chExt cx="125280" cy="11016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4878000" y="1553400"/>
                  <a:ext cx="119520" cy="99000"/>
                  <a:chOff x="4878000" y="1553400"/>
                  <a:chExt cx="119520" cy="9900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4878000" y="1553400"/>
                    <a:ext cx="1195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75" y="13220"/>
                        </a:moveTo>
                        <a:arcTo wR="10800" hR="10800" stAng="10022948" swAng="107170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75" y="13220"/>
                        </a:moveTo>
                        <a:arcTo wR="10800" hR="10800" stAng="10022948" swAng="10717050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4878000" y="1553400"/>
                    <a:ext cx="1191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75" y="13220"/>
                        </a:moveTo>
                        <a:arcTo wR="10800" hR="10800" stAng="10022948" swAng="446544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75" y="13220"/>
                        </a:moveTo>
                        <a:arcTo wR="10800" hR="10800" stAng="10022948" swAng="4465446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4879080" y="1553400"/>
                    <a:ext cx="1173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9" y="13194"/>
                        </a:moveTo>
                        <a:arcTo wR="10800" hR="10800" stAng="10031485" swAng="1061516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9" y="13194"/>
                        </a:moveTo>
                        <a:arcTo wR="10800" hR="10800" stAng="10031485" swAng="10615168"/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5" name=""/>
                <p:cNvSpPr/>
                <p:nvPr/>
              </p:nvSpPr>
              <p:spPr>
                <a:xfrm>
                  <a:off x="4884480" y="1564200"/>
                  <a:ext cx="118800" cy="9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75" y="13220"/>
                      </a:moveTo>
                      <a:arcTo wR="10800" hR="10800" stAng="10022948" swAng="106351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75" y="13220"/>
                      </a:moveTo>
                      <a:arcTo wR="10800" hR="10800" stAng="10022948" swAng="10635112"/>
                    </a:path>
                  </a:pathLst>
                </a:custGeom>
                <a:solidFill>
                  <a:srgbClr val="7f3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4889880" y="1573920"/>
                <a:ext cx="125280" cy="111240"/>
                <a:chOff x="4889880" y="1573920"/>
                <a:chExt cx="125280" cy="11124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4889880" y="1573920"/>
                  <a:ext cx="119880" cy="100080"/>
                  <a:chOff x="4889880" y="1573920"/>
                  <a:chExt cx="119880" cy="1000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89880" y="1574280"/>
                    <a:ext cx="11844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4" y="12891"/>
                        </a:moveTo>
                        <a:arcTo wR="10800" hR="10800" stAng="10130033" swAng="105994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4" y="12891"/>
                        </a:moveTo>
                        <a:arcTo wR="10800" hR="10800" stAng="10130033" swAng="1059946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889880" y="1573920"/>
                    <a:ext cx="119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4" y="12891"/>
                        </a:moveTo>
                        <a:arcTo wR="10800" hR="10800" stAng="10130033" swAng="434182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4" y="12891"/>
                        </a:moveTo>
                        <a:arcTo wR="10800" hR="10800" stAng="10130033" swAng="4341825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4889880" y="1574280"/>
                    <a:ext cx="119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75" y="13220"/>
                        </a:moveTo>
                        <a:arcTo wR="10800" hR="10800" stAng="10022948" swAng="107170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75" y="13220"/>
                        </a:moveTo>
                        <a:arcTo wR="10800" hR="10800" stAng="10022948" swAng="10717050"/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1" name=""/>
                <p:cNvSpPr/>
                <p:nvPr/>
              </p:nvSpPr>
              <p:spPr>
                <a:xfrm>
                  <a:off x="4896360" y="1585080"/>
                  <a:ext cx="118800" cy="100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57" y="13141"/>
                      </a:moveTo>
                      <a:arcTo wR="10800" hR="10800" stAng="10048788" swAng="1068070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57" y="13141"/>
                      </a:moveTo>
                      <a:arcTo wR="10800" hR="10800" stAng="10048788" swAng="10680707"/>
                    </a:path>
                  </a:pathLst>
                </a:custGeom>
                <a:solidFill>
                  <a:srgbClr val="7f3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4902120" y="1593360"/>
                <a:ext cx="119160" cy="100080"/>
                <a:chOff x="4902120" y="1593360"/>
                <a:chExt cx="119160" cy="1000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4902120" y="1593720"/>
                  <a:ext cx="118080" cy="99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4" y="12891"/>
                      </a:moveTo>
                      <a:arcTo wR="10800" hR="10800" stAng="10130033" swAng="107014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4" y="12891"/>
                      </a:moveTo>
                      <a:arcTo wR="10800" hR="10800" stAng="10130033" swAng="10701453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902120" y="1593360"/>
                  <a:ext cx="119160" cy="99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4" y="12891"/>
                      </a:moveTo>
                      <a:arcTo wR="10800" hR="10800" stAng="10130033" swAng="43418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4" y="12891"/>
                      </a:moveTo>
                      <a:arcTo wR="10800" hR="10800" stAng="10130033" swAng="4341825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4902120" y="1593720"/>
                <a:ext cx="124920" cy="109800"/>
                <a:chOff x="4902120" y="1593720"/>
                <a:chExt cx="124920" cy="10980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902120" y="1593720"/>
                  <a:ext cx="119880" cy="9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9" y="12963"/>
                      </a:moveTo>
                      <a:arcTo wR="10800" hR="10800" stAng="10106828" swAng="106331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9" y="12963"/>
                      </a:moveTo>
                      <a:arcTo wR="10800" hR="10800" stAng="10106828" swAng="10633171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908600" y="1604520"/>
                  <a:ext cx="118440" cy="9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4" y="12891"/>
                      </a:moveTo>
                      <a:arcTo wR="10800" hR="10800" stAng="10130033" swAng="105994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4" y="12891"/>
                      </a:moveTo>
                      <a:arcTo wR="10800" hR="10800" stAng="10130033" swAng="10599462"/>
                    </a:path>
                  </a:pathLst>
                </a:custGeom>
                <a:solidFill>
                  <a:srgbClr val="7f3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4834440" y="1504440"/>
                <a:ext cx="385200" cy="495360"/>
                <a:chOff x="4834440" y="1504440"/>
                <a:chExt cx="385200" cy="4953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4945680" y="1504440"/>
                  <a:ext cx="273960" cy="440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834440" y="1539720"/>
                  <a:ext cx="273600" cy="460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4914720" y="1612800"/>
                <a:ext cx="124920" cy="107280"/>
                <a:chOff x="4914720" y="1612800"/>
                <a:chExt cx="124920" cy="10728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4914720" y="1612800"/>
                  <a:ext cx="119160" cy="99000"/>
                  <a:chOff x="4914720" y="1612800"/>
                  <a:chExt cx="119160" cy="9900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4914720" y="1613160"/>
                    <a:ext cx="118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8" y="12638"/>
                        </a:moveTo>
                        <a:arcTo wR="10800" hR="10800" stAng="10212044" swAng="106194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8" y="12638"/>
                        </a:moveTo>
                        <a:arcTo wR="10800" hR="10800" stAng="10212044" swAng="1061944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4914720" y="1612800"/>
                    <a:ext cx="1191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8" y="12638"/>
                        </a:moveTo>
                        <a:arcTo wR="10800" hR="10800" stAng="10212044" swAng="425981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8" y="12638"/>
                        </a:moveTo>
                        <a:arcTo wR="10800" hR="10800" stAng="10212044" swAng="4259814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5" name=""/>
                <p:cNvSpPr/>
                <p:nvPr/>
              </p:nvSpPr>
              <p:spPr>
                <a:xfrm>
                  <a:off x="4914720" y="1613160"/>
                  <a:ext cx="119160" cy="9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9" y="12963"/>
                      </a:moveTo>
                      <a:arcTo wR="10800" hR="10800" stAng="10106828" swAng="107161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9" y="12963"/>
                      </a:moveTo>
                      <a:arcTo wR="10800" hR="10800" stAng="10106828" swAng="10716120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919760" y="1621440"/>
                  <a:ext cx="119880" cy="98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36" y="13474"/>
                      </a:moveTo>
                      <a:arcTo wR="10800" hR="10800" stAng="9939998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36" y="13474"/>
                      </a:moveTo>
                      <a:arcTo wR="10800" hR="10800" stAng="9939998" swAng="10800000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>
                <a:off x="4917240" y="1624320"/>
                <a:ext cx="236880" cy="36504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104080" y="1927080"/>
                <a:ext cx="129240" cy="110880"/>
              </a:xfrm>
              <a:prstGeom prst="ellipse">
                <a:avLst/>
              </a:prstGeom>
              <a:solidFill>
                <a:srgbClr val="7f5f3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299840" y="892800"/>
              <a:ext cx="786600" cy="67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181480" y="1143000"/>
            <a:ext cx="609840" cy="457200"/>
            <a:chOff x="5181480" y="1143000"/>
            <a:chExt cx="609840" cy="457200"/>
          </a:xfrm>
        </p:grpSpPr>
        <p:sp>
          <p:nvSpPr>
            <p:cNvPr id="371" name=""/>
            <p:cNvSpPr/>
            <p:nvPr/>
          </p:nvSpPr>
          <p:spPr>
            <a:xfrm>
              <a:off x="5181480" y="1143000"/>
              <a:ext cx="609840" cy="30492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81480" y="1447920"/>
              <a:ext cx="609840" cy="152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105520" y="609480"/>
            <a:ext cx="449280" cy="463680"/>
          </a:xfrm>
          <a:prstGeom prst="can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029200" y="1066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29200" y="11430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6248520" y="1447920"/>
                <a:ext cx="14605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6097320" y="9907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Ähnlichkeitsfun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105520" y="4572000"/>
                <a:ext cx="374652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|</m:t>
                            </m:r>
                            <m:r>
                              <m:t xml:space="preserve">F</m:t>
                            </m:r>
                            <m:r>
                              <m:t xml:space="preserve">|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|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|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  <m:r>
                              <m:t xml:space="preserve"> 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|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|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306000" y="457200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wendete Ähnlichkeitsfunktionen sind z.B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2057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29040" y="1887480"/>
            <a:ext cx="2513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RSVs = Retrie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tus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066680" y="5105520"/>
                <a:ext cx="29466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|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456480" y="601992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Skalarprodu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96040" y="601992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Cosinus-Ma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DCD-F517-4804-8020-3C4EAAC5CF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rmgewichtung in Dokum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762120"/>
            <a:ext cx="792504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rachtet werden die folgenden W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für N Dokumente und M Term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Häufigkeit (term frequency) des Terms ti in Dokument 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Anzahl der Dokumente mit Term ti (doc.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d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N / d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inverse document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Häufigkeit von ti in allen Dokumenten (corpus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ggf. mit separater Berücksichtigung von Termen in title u.ä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3505320"/>
            <a:ext cx="7925040" cy="27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rundprinz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s Gewicht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Term ti in Dokument dj sol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t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 mit id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monoton wach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ster Ansatz: wij = t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* idf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tf-idf-Form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gf. sollten die Gewichte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ie folgt zu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rmiert we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882720" y="5943600"/>
                <a:ext cx="2679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739-3F3E-4A73-AE9D-BCF414CE30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tionen der Termgewichtung mit tf und i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2680" y="5029200"/>
            <a:ext cx="3581640" cy="1523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9440" y="50292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äufige Varia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492360" y="5913360"/>
                <a:ext cx="267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581280" y="5029200"/>
                <a:ext cx="2845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7010280" y="5181480"/>
            <a:ext cx="11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f*idf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or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2280" y="701640"/>
            <a:ext cx="775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pirische Resultate zeigen, daß in der Regel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f- und idf-Werte normalisiert und/oder gedämpft sein soll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7440" y="171756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rmalisierung tf-We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137120" y="1523880"/>
                <a:ext cx="1942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758520" y="251460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dämpfte tf-We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3835440" y="2514600"/>
                <a:ext cx="2031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758520" y="320040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dämpfte idf-We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070520" y="3016080"/>
                <a:ext cx="15620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F48-E80F-4007-8746-550D1570B8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Query-Verfeinerung mit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Relevanz-Feedback nach Rocch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1197000"/>
            <a:ext cx="861048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Resultat D der Query q bestehe das Relevanz-Feedback des Benutzers aus einer Partitionierung von D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die Menge der relevanten Dokumente in D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die Menge der nicht relevanten Dokumente in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neriere verfeinerte Query q‘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geeigneten Gewicht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[0,1] (typischerweis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11280" y="3357720"/>
          <a:ext cx="5616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357720"/>
                    <a:ext cx="56163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CAD-C0F0-479C-87D8-BAEC1950AA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609480" y="4343400"/>
            <a:ext cx="8001000" cy="1796760"/>
            <a:chOff x="609480" y="4343400"/>
            <a:chExt cx="8001000" cy="1796760"/>
          </a:xfrm>
        </p:grpSpPr>
        <p:sp>
          <p:nvSpPr>
            <p:cNvPr id="407" name=""/>
            <p:cNvSpPr/>
            <p:nvPr/>
          </p:nvSpPr>
          <p:spPr>
            <a:xfrm>
              <a:off x="609480" y="4343400"/>
              <a:ext cx="8001000" cy="1600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9480" y="4343400"/>
              <a:ext cx="7925040" cy="17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+ Berücksichtige Fanin und Fanout von Web-Seiten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de-DE" sz="2800" spc="-1" strike="noStrike">
                  <a:solidFill>
                    <a:srgbClr val="d60093"/>
                  </a:solidFill>
                  <a:latin typeface="Times New Roman"/>
                </a:rPr>
                <a:t>Autoritätsrang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 (d</a:t>
              </a:r>
              <a:r>
                <a:rPr b="1" lang="de-DE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) :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Stationäre Besuchswahrscheinlichkeit P [d</a:t>
              </a:r>
              <a:r>
                <a:rPr b="1" lang="de-DE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bei Random Walk auf dem We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666880" y="1447920"/>
            <a:ext cx="3810240" cy="2590560"/>
          </a:xfrm>
          <a:prstGeom prst="cloudCallout">
            <a:avLst>
              <a:gd name="adj1" fmla="val -47750"/>
              <a:gd name="adj2" fmla="val 4185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09480" y="1798560"/>
            <a:ext cx="381240" cy="914040"/>
            <a:chOff x="609480" y="1798560"/>
            <a:chExt cx="381240" cy="914040"/>
          </a:xfrm>
        </p:grpSpPr>
        <p:sp>
          <p:nvSpPr>
            <p:cNvPr id="411" name=""/>
            <p:cNvSpPr/>
            <p:nvPr/>
          </p:nvSpPr>
          <p:spPr>
            <a:xfrm flipH="1">
              <a:off x="640440" y="1798560"/>
              <a:ext cx="317880" cy="281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99920" y="2079720"/>
              <a:ext cx="0" cy="35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609480" y="2431440"/>
              <a:ext cx="190440" cy="28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0280" y="2431440"/>
              <a:ext cx="126720" cy="28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609480" y="2220120"/>
              <a:ext cx="190440" cy="7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800280" y="2220120"/>
              <a:ext cx="190440" cy="7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57200" y="1874880"/>
            <a:ext cx="381240" cy="914040"/>
            <a:chOff x="457200" y="1874880"/>
            <a:chExt cx="381240" cy="914040"/>
          </a:xfrm>
        </p:grpSpPr>
        <p:sp>
          <p:nvSpPr>
            <p:cNvPr id="418" name=""/>
            <p:cNvSpPr/>
            <p:nvPr/>
          </p:nvSpPr>
          <p:spPr>
            <a:xfrm flipH="1">
              <a:off x="488880" y="1874880"/>
              <a:ext cx="317520" cy="281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7640" y="2156040"/>
              <a:ext cx="0" cy="35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457200" y="2507760"/>
              <a:ext cx="190440" cy="28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8000" y="2507760"/>
              <a:ext cx="126720" cy="28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457200" y="2296440"/>
              <a:ext cx="190440" cy="7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48000" y="2296440"/>
              <a:ext cx="190440" cy="7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kanalyse für Autoritäts-Ran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04920" y="1951200"/>
            <a:ext cx="381240" cy="914040"/>
            <a:chOff x="304920" y="1951200"/>
            <a:chExt cx="381240" cy="914040"/>
          </a:xfrm>
        </p:grpSpPr>
        <p:sp>
          <p:nvSpPr>
            <p:cNvPr id="426" name=""/>
            <p:cNvSpPr/>
            <p:nvPr/>
          </p:nvSpPr>
          <p:spPr>
            <a:xfrm flipH="1">
              <a:off x="336600" y="1951200"/>
              <a:ext cx="317520" cy="281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5360" y="2232360"/>
              <a:ext cx="0" cy="35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304920" y="2584080"/>
              <a:ext cx="190440" cy="28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5720" y="2584080"/>
              <a:ext cx="126720" cy="28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304920" y="2372760"/>
              <a:ext cx="190440" cy="7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95720" y="2372760"/>
              <a:ext cx="190440" cy="7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2590920" y="3200400"/>
            <a:ext cx="990360" cy="762120"/>
          </a:xfrm>
          <a:prstGeom prst="flowChartMagneticDisk">
            <a:avLst/>
          </a:prstGeom>
          <a:solidFill>
            <a:srgbClr val="99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038480" y="2743200"/>
            <a:ext cx="990720" cy="762120"/>
          </a:xfrm>
          <a:prstGeom prst="flowChartMagneticDisk">
            <a:avLst/>
          </a:prstGeom>
          <a:solidFill>
            <a:srgbClr val="99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080" y="3048120"/>
            <a:ext cx="990720" cy="761760"/>
          </a:xfrm>
          <a:prstGeom prst="flowChartMagneticDisk">
            <a:avLst/>
          </a:prstGeom>
          <a:solidFill>
            <a:srgbClr val="99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5880" y="3429000"/>
            <a:ext cx="2286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3581280"/>
            <a:ext cx="228600" cy="228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43200" y="3505320"/>
            <a:ext cx="228600" cy="228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91120" y="3048120"/>
            <a:ext cx="228600" cy="228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562720" y="3352680"/>
            <a:ext cx="228600" cy="2286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8160" y="144792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chmas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2789280"/>
            <a:ext cx="2029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e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wicht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-Fe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990720" y="2743200"/>
                <a:ext cx="12445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∈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|</m:t>
                        </m:r>
                        <m:r>
                          <m:t xml:space="preserve">F</m:t>
                        </m:r>
                        <m:r>
                          <m:t xml:space="preserve">|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2971800" y="1143000"/>
            <a:ext cx="1828800" cy="304920"/>
            <a:chOff x="2971800" y="1143000"/>
            <a:chExt cx="1828800" cy="304920"/>
          </a:xfrm>
        </p:grpSpPr>
        <p:sp>
          <p:nvSpPr>
            <p:cNvPr id="444" name=""/>
            <p:cNvSpPr/>
            <p:nvPr/>
          </p:nvSpPr>
          <p:spPr>
            <a:xfrm flipH="1">
              <a:off x="2971800" y="1143000"/>
              <a:ext cx="1828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3429000" y="1295280"/>
              <a:ext cx="13716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3962520" y="1447920"/>
              <a:ext cx="838080" cy="0"/>
            </a:xfrm>
            <a:prstGeom prst="line">
              <a:avLst/>
            </a:prstGeom>
            <a:ln w="2844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 flipV="1">
            <a:off x="1219320" y="1905120"/>
            <a:ext cx="2819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513880" y="2887560"/>
            <a:ext cx="3696840" cy="848520"/>
            <a:chOff x="2513880" y="2887560"/>
            <a:chExt cx="3696840" cy="848520"/>
          </a:xfrm>
        </p:grpSpPr>
        <p:sp>
          <p:nvSpPr>
            <p:cNvPr id="449" name=""/>
            <p:cNvSpPr/>
            <p:nvPr/>
          </p:nvSpPr>
          <p:spPr>
            <a:xfrm flipV="1">
              <a:off x="3276720" y="3200400"/>
              <a:ext cx="9144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3276720" y="3504960"/>
              <a:ext cx="22860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4419720" y="3123720"/>
              <a:ext cx="12189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2971800" y="3124080"/>
              <a:ext cx="12193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 flipV="1">
              <a:off x="5715000" y="3429000"/>
              <a:ext cx="4572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4" name=""/>
            <p:cNvCxnSpPr>
              <a:stCxn id="439" idx="0"/>
              <a:endCxn id="437" idx="1"/>
            </p:cNvCxnSpPr>
            <p:nvPr/>
          </p:nvCxnSpPr>
          <p:spPr>
            <a:xfrm rot="5400000">
              <a:off x="4075920" y="2017800"/>
              <a:ext cx="267120" cy="2934360"/>
            </a:xfrm>
            <a:prstGeom prst="curvedConnector5">
              <a:avLst>
                <a:gd name="adj1" fmla="val -173954"/>
                <a:gd name="adj2" fmla="val 53889"/>
                <a:gd name="adj3" fmla="val -173954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5" name=""/>
            <p:cNvSpPr/>
            <p:nvPr/>
          </p:nvSpPr>
          <p:spPr>
            <a:xfrm flipH="1" flipV="1">
              <a:off x="2895120" y="3657600"/>
              <a:ext cx="3812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6" name=""/>
            <p:cNvCxnSpPr>
              <a:stCxn id="438" idx="0"/>
              <a:endCxn id="437" idx="0"/>
            </p:cNvCxnSpPr>
            <p:nvPr/>
          </p:nvCxnSpPr>
          <p:spPr>
            <a:xfrm rot="5400000">
              <a:off x="3351960" y="2552760"/>
              <a:ext cx="457920" cy="1448280"/>
            </a:xfrm>
            <a:prstGeom prst="curvedConnector5">
              <a:avLst>
                <a:gd name="adj1" fmla="val 1022"/>
                <a:gd name="adj2" fmla="val 50000"/>
                <a:gd name="adj3" fmla="val 102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39" idx="2"/>
              <a:endCxn id="435" idx="2"/>
            </p:cNvCxnSpPr>
            <p:nvPr/>
          </p:nvCxnSpPr>
          <p:spPr>
            <a:xfrm flipH="1" rot="16200000">
              <a:off x="5905440" y="3352320"/>
              <a:ext cx="76680" cy="534240"/>
            </a:xfrm>
            <a:prstGeom prst="curvedConnector5">
              <a:avLst>
                <a:gd name="adj1" fmla="val 202830"/>
                <a:gd name="adj2" fmla="val 49966"/>
                <a:gd name="adj3" fmla="val 2028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58" name=""/>
          <p:cNvGrpSpPr/>
          <p:nvPr/>
        </p:nvGrpSpPr>
        <p:grpSpPr>
          <a:xfrm>
            <a:off x="4724280" y="838080"/>
            <a:ext cx="966240" cy="1199880"/>
            <a:chOff x="4724280" y="838080"/>
            <a:chExt cx="966240" cy="1199880"/>
          </a:xfrm>
        </p:grpSpPr>
        <p:grpSp>
          <p:nvGrpSpPr>
            <p:cNvPr id="459" name=""/>
            <p:cNvGrpSpPr/>
            <p:nvPr/>
          </p:nvGrpSpPr>
          <p:grpSpPr>
            <a:xfrm>
              <a:off x="4739400" y="846360"/>
              <a:ext cx="804240" cy="720000"/>
              <a:chOff x="4739400" y="846360"/>
              <a:chExt cx="804240" cy="72000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4739400" y="846360"/>
                <a:ext cx="804240" cy="720000"/>
                <a:chOff x="4739400" y="846360"/>
                <a:chExt cx="804240" cy="7200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739400" y="846360"/>
                  <a:ext cx="682920" cy="418680"/>
                </a:xfrm>
                <a:custGeom>
                  <a:avLst/>
                  <a:gdLst/>
                  <a:ahLst/>
                  <a:rect l="l" t="t" r="r" b="b"/>
                  <a:pathLst>
                    <a:path w="1004" h="685">
                      <a:moveTo>
                        <a:pt x="21" y="685"/>
                      </a:moveTo>
                      <a:lnTo>
                        <a:pt x="6" y="604"/>
                      </a:lnTo>
                      <a:lnTo>
                        <a:pt x="0" y="526"/>
                      </a:lnTo>
                      <a:lnTo>
                        <a:pt x="3" y="472"/>
                      </a:lnTo>
                      <a:lnTo>
                        <a:pt x="12" y="423"/>
                      </a:lnTo>
                      <a:lnTo>
                        <a:pt x="27" y="369"/>
                      </a:lnTo>
                      <a:lnTo>
                        <a:pt x="51" y="315"/>
                      </a:lnTo>
                      <a:lnTo>
                        <a:pt x="81" y="258"/>
                      </a:lnTo>
                      <a:lnTo>
                        <a:pt x="111" y="213"/>
                      </a:lnTo>
                      <a:lnTo>
                        <a:pt x="147" y="168"/>
                      </a:lnTo>
                      <a:lnTo>
                        <a:pt x="189" y="129"/>
                      </a:lnTo>
                      <a:lnTo>
                        <a:pt x="231" y="96"/>
                      </a:lnTo>
                      <a:lnTo>
                        <a:pt x="276" y="69"/>
                      </a:lnTo>
                      <a:lnTo>
                        <a:pt x="331" y="45"/>
                      </a:lnTo>
                      <a:lnTo>
                        <a:pt x="394" y="24"/>
                      </a:lnTo>
                      <a:lnTo>
                        <a:pt x="448" y="9"/>
                      </a:lnTo>
                      <a:lnTo>
                        <a:pt x="514" y="0"/>
                      </a:lnTo>
                      <a:lnTo>
                        <a:pt x="598" y="0"/>
                      </a:lnTo>
                      <a:lnTo>
                        <a:pt x="661" y="12"/>
                      </a:lnTo>
                      <a:lnTo>
                        <a:pt x="737" y="30"/>
                      </a:lnTo>
                      <a:lnTo>
                        <a:pt x="812" y="63"/>
                      </a:lnTo>
                      <a:lnTo>
                        <a:pt x="878" y="102"/>
                      </a:lnTo>
                      <a:lnTo>
                        <a:pt x="923" y="141"/>
                      </a:lnTo>
                      <a:lnTo>
                        <a:pt x="968" y="186"/>
                      </a:lnTo>
                      <a:lnTo>
                        <a:pt x="1004" y="231"/>
                      </a:lnTo>
                      <a:lnTo>
                        <a:pt x="908" y="159"/>
                      </a:lnTo>
                      <a:lnTo>
                        <a:pt x="857" y="129"/>
                      </a:lnTo>
                      <a:lnTo>
                        <a:pt x="803" y="108"/>
                      </a:lnTo>
                      <a:lnTo>
                        <a:pt x="734" y="87"/>
                      </a:lnTo>
                      <a:lnTo>
                        <a:pt x="667" y="78"/>
                      </a:lnTo>
                      <a:lnTo>
                        <a:pt x="595" y="75"/>
                      </a:lnTo>
                      <a:lnTo>
                        <a:pt x="541" y="78"/>
                      </a:lnTo>
                      <a:lnTo>
                        <a:pt x="484" y="87"/>
                      </a:lnTo>
                      <a:lnTo>
                        <a:pt x="427" y="102"/>
                      </a:lnTo>
                      <a:lnTo>
                        <a:pt x="373" y="120"/>
                      </a:lnTo>
                      <a:lnTo>
                        <a:pt x="313" y="150"/>
                      </a:lnTo>
                      <a:lnTo>
                        <a:pt x="267" y="177"/>
                      </a:lnTo>
                      <a:lnTo>
                        <a:pt x="228" y="210"/>
                      </a:lnTo>
                      <a:lnTo>
                        <a:pt x="183" y="246"/>
                      </a:lnTo>
                      <a:lnTo>
                        <a:pt x="147" y="285"/>
                      </a:lnTo>
                      <a:lnTo>
                        <a:pt x="111" y="339"/>
                      </a:lnTo>
                      <a:lnTo>
                        <a:pt x="78" y="396"/>
                      </a:lnTo>
                      <a:lnTo>
                        <a:pt x="57" y="450"/>
                      </a:lnTo>
                      <a:lnTo>
                        <a:pt x="39" y="514"/>
                      </a:lnTo>
                      <a:lnTo>
                        <a:pt x="27" y="592"/>
                      </a:lnTo>
                      <a:lnTo>
                        <a:pt x="21" y="68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789800" y="1053720"/>
                  <a:ext cx="753840" cy="512640"/>
                </a:xfrm>
                <a:custGeom>
                  <a:avLst/>
                  <a:gdLst/>
                  <a:ahLst/>
                  <a:rect l="l" t="t" r="r" b="b"/>
                  <a:pathLst>
                    <a:path w="1107" h="842">
                      <a:moveTo>
                        <a:pt x="0" y="511"/>
                      </a:moveTo>
                      <a:lnTo>
                        <a:pt x="63" y="583"/>
                      </a:lnTo>
                      <a:lnTo>
                        <a:pt x="132" y="647"/>
                      </a:lnTo>
                      <a:lnTo>
                        <a:pt x="195" y="683"/>
                      </a:lnTo>
                      <a:lnTo>
                        <a:pt x="286" y="722"/>
                      </a:lnTo>
                      <a:lnTo>
                        <a:pt x="358" y="743"/>
                      </a:lnTo>
                      <a:lnTo>
                        <a:pt x="424" y="752"/>
                      </a:lnTo>
                      <a:lnTo>
                        <a:pt x="502" y="752"/>
                      </a:lnTo>
                      <a:lnTo>
                        <a:pt x="559" y="746"/>
                      </a:lnTo>
                      <a:lnTo>
                        <a:pt x="629" y="734"/>
                      </a:lnTo>
                      <a:lnTo>
                        <a:pt x="698" y="713"/>
                      </a:lnTo>
                      <a:lnTo>
                        <a:pt x="755" y="683"/>
                      </a:lnTo>
                      <a:lnTo>
                        <a:pt x="809" y="650"/>
                      </a:lnTo>
                      <a:lnTo>
                        <a:pt x="857" y="616"/>
                      </a:lnTo>
                      <a:lnTo>
                        <a:pt x="905" y="568"/>
                      </a:lnTo>
                      <a:lnTo>
                        <a:pt x="953" y="514"/>
                      </a:lnTo>
                      <a:lnTo>
                        <a:pt x="990" y="463"/>
                      </a:lnTo>
                      <a:lnTo>
                        <a:pt x="1011" y="412"/>
                      </a:lnTo>
                      <a:lnTo>
                        <a:pt x="1038" y="331"/>
                      </a:lnTo>
                      <a:lnTo>
                        <a:pt x="1056" y="247"/>
                      </a:lnTo>
                      <a:lnTo>
                        <a:pt x="1059" y="172"/>
                      </a:lnTo>
                      <a:lnTo>
                        <a:pt x="1047" y="90"/>
                      </a:lnTo>
                      <a:lnTo>
                        <a:pt x="1020" y="0"/>
                      </a:lnTo>
                      <a:lnTo>
                        <a:pt x="1047" y="48"/>
                      </a:lnTo>
                      <a:lnTo>
                        <a:pt x="1077" y="117"/>
                      </a:lnTo>
                      <a:lnTo>
                        <a:pt x="1092" y="181"/>
                      </a:lnTo>
                      <a:lnTo>
                        <a:pt x="1107" y="241"/>
                      </a:lnTo>
                      <a:lnTo>
                        <a:pt x="1104" y="292"/>
                      </a:lnTo>
                      <a:lnTo>
                        <a:pt x="1101" y="361"/>
                      </a:lnTo>
                      <a:lnTo>
                        <a:pt x="1065" y="493"/>
                      </a:lnTo>
                      <a:lnTo>
                        <a:pt x="1029" y="565"/>
                      </a:lnTo>
                      <a:lnTo>
                        <a:pt x="984" y="629"/>
                      </a:lnTo>
                      <a:lnTo>
                        <a:pt x="935" y="683"/>
                      </a:lnTo>
                      <a:lnTo>
                        <a:pt x="887" y="722"/>
                      </a:lnTo>
                      <a:lnTo>
                        <a:pt x="821" y="767"/>
                      </a:lnTo>
                      <a:lnTo>
                        <a:pt x="755" y="797"/>
                      </a:lnTo>
                      <a:lnTo>
                        <a:pt x="692" y="818"/>
                      </a:lnTo>
                      <a:lnTo>
                        <a:pt x="611" y="839"/>
                      </a:lnTo>
                      <a:lnTo>
                        <a:pt x="550" y="842"/>
                      </a:lnTo>
                      <a:lnTo>
                        <a:pt x="484" y="842"/>
                      </a:lnTo>
                      <a:lnTo>
                        <a:pt x="418" y="830"/>
                      </a:lnTo>
                      <a:lnTo>
                        <a:pt x="346" y="815"/>
                      </a:lnTo>
                      <a:lnTo>
                        <a:pt x="298" y="797"/>
                      </a:lnTo>
                      <a:lnTo>
                        <a:pt x="234" y="764"/>
                      </a:lnTo>
                      <a:lnTo>
                        <a:pt x="180" y="734"/>
                      </a:lnTo>
                      <a:lnTo>
                        <a:pt x="129" y="692"/>
                      </a:lnTo>
                      <a:lnTo>
                        <a:pt x="75" y="635"/>
                      </a:lnTo>
                      <a:lnTo>
                        <a:pt x="24" y="562"/>
                      </a:lnTo>
                      <a:lnTo>
                        <a:pt x="0" y="51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4743360" y="856080"/>
                <a:ext cx="798480" cy="679320"/>
                <a:chOff x="4743360" y="856080"/>
                <a:chExt cx="798480" cy="6793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788000" y="1365840"/>
                  <a:ext cx="196200" cy="169560"/>
                </a:xfrm>
                <a:custGeom>
                  <a:avLst/>
                  <a:gdLst/>
                  <a:ahLst/>
                  <a:rect l="l" t="t" r="r" b="b"/>
                  <a:pathLst>
                    <a:path w="287" h="279">
                      <a:moveTo>
                        <a:pt x="0" y="0"/>
                      </a:moveTo>
                      <a:lnTo>
                        <a:pt x="30" y="56"/>
                      </a:lnTo>
                      <a:lnTo>
                        <a:pt x="59" y="99"/>
                      </a:lnTo>
                      <a:lnTo>
                        <a:pt x="90" y="139"/>
                      </a:lnTo>
                      <a:lnTo>
                        <a:pt x="138" y="186"/>
                      </a:lnTo>
                      <a:lnTo>
                        <a:pt x="174" y="216"/>
                      </a:lnTo>
                      <a:lnTo>
                        <a:pt x="220" y="245"/>
                      </a:lnTo>
                      <a:lnTo>
                        <a:pt x="287" y="279"/>
                      </a:lnTo>
                      <a:lnTo>
                        <a:pt x="212" y="177"/>
                      </a:lnTo>
                      <a:lnTo>
                        <a:pt x="170" y="153"/>
                      </a:lnTo>
                      <a:lnTo>
                        <a:pt x="140" y="132"/>
                      </a:lnTo>
                      <a:lnTo>
                        <a:pt x="96" y="101"/>
                      </a:lnTo>
                      <a:lnTo>
                        <a:pt x="62" y="69"/>
                      </a:lnTo>
                      <a:lnTo>
                        <a:pt x="35" y="4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472360" y="1049760"/>
                  <a:ext cx="69480" cy="333000"/>
                </a:xfrm>
                <a:custGeom>
                  <a:avLst/>
                  <a:gdLst/>
                  <a:ahLst/>
                  <a:rect l="l" t="t" r="r" b="b"/>
                  <a:pathLst>
                    <a:path w="103" h="546">
                      <a:moveTo>
                        <a:pt x="19" y="0"/>
                      </a:moveTo>
                      <a:lnTo>
                        <a:pt x="39" y="37"/>
                      </a:lnTo>
                      <a:lnTo>
                        <a:pt x="52" y="69"/>
                      </a:lnTo>
                      <a:lnTo>
                        <a:pt x="66" y="102"/>
                      </a:lnTo>
                      <a:lnTo>
                        <a:pt x="76" y="134"/>
                      </a:lnTo>
                      <a:lnTo>
                        <a:pt x="84" y="164"/>
                      </a:lnTo>
                      <a:lnTo>
                        <a:pt x="99" y="217"/>
                      </a:lnTo>
                      <a:lnTo>
                        <a:pt x="103" y="269"/>
                      </a:lnTo>
                      <a:lnTo>
                        <a:pt x="100" y="349"/>
                      </a:lnTo>
                      <a:lnTo>
                        <a:pt x="93" y="403"/>
                      </a:lnTo>
                      <a:lnTo>
                        <a:pt x="82" y="447"/>
                      </a:lnTo>
                      <a:lnTo>
                        <a:pt x="65" y="493"/>
                      </a:lnTo>
                      <a:lnTo>
                        <a:pt x="42" y="546"/>
                      </a:lnTo>
                      <a:lnTo>
                        <a:pt x="0" y="443"/>
                      </a:lnTo>
                      <a:lnTo>
                        <a:pt x="19" y="398"/>
                      </a:lnTo>
                      <a:lnTo>
                        <a:pt x="28" y="374"/>
                      </a:lnTo>
                      <a:lnTo>
                        <a:pt x="39" y="343"/>
                      </a:lnTo>
                      <a:lnTo>
                        <a:pt x="46" y="311"/>
                      </a:lnTo>
                      <a:lnTo>
                        <a:pt x="52" y="262"/>
                      </a:lnTo>
                      <a:lnTo>
                        <a:pt x="55" y="221"/>
                      </a:lnTo>
                      <a:lnTo>
                        <a:pt x="55" y="160"/>
                      </a:lnTo>
                      <a:lnTo>
                        <a:pt x="46" y="105"/>
                      </a:lnTo>
                      <a:lnTo>
                        <a:pt x="36" y="60"/>
                      </a:lnTo>
                      <a:lnTo>
                        <a:pt x="30" y="36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105880" y="856080"/>
                  <a:ext cx="277920" cy="101160"/>
                </a:xfrm>
                <a:custGeom>
                  <a:avLst/>
                  <a:gdLst/>
                  <a:ahLst/>
                  <a:rect l="l" t="t" r="r" b="b"/>
                  <a:pathLst>
                    <a:path w="409" h="165">
                      <a:moveTo>
                        <a:pt x="0" y="0"/>
                      </a:moveTo>
                      <a:lnTo>
                        <a:pt x="31" y="60"/>
                      </a:lnTo>
                      <a:lnTo>
                        <a:pt x="79" y="57"/>
                      </a:lnTo>
                      <a:lnTo>
                        <a:pt x="123" y="60"/>
                      </a:lnTo>
                      <a:lnTo>
                        <a:pt x="165" y="66"/>
                      </a:lnTo>
                      <a:lnTo>
                        <a:pt x="203" y="73"/>
                      </a:lnTo>
                      <a:lnTo>
                        <a:pt x="241" y="83"/>
                      </a:lnTo>
                      <a:lnTo>
                        <a:pt x="267" y="91"/>
                      </a:lnTo>
                      <a:lnTo>
                        <a:pt x="301" y="105"/>
                      </a:lnTo>
                      <a:lnTo>
                        <a:pt x="340" y="124"/>
                      </a:lnTo>
                      <a:lnTo>
                        <a:pt x="409" y="165"/>
                      </a:lnTo>
                      <a:lnTo>
                        <a:pt x="369" y="123"/>
                      </a:lnTo>
                      <a:lnTo>
                        <a:pt x="341" y="102"/>
                      </a:lnTo>
                      <a:lnTo>
                        <a:pt x="304" y="78"/>
                      </a:lnTo>
                      <a:lnTo>
                        <a:pt x="281" y="64"/>
                      </a:lnTo>
                      <a:lnTo>
                        <a:pt x="230" y="40"/>
                      </a:lnTo>
                      <a:lnTo>
                        <a:pt x="197" y="28"/>
                      </a:lnTo>
                      <a:lnTo>
                        <a:pt x="170" y="19"/>
                      </a:lnTo>
                      <a:lnTo>
                        <a:pt x="145" y="13"/>
                      </a:lnTo>
                      <a:lnTo>
                        <a:pt x="105" y="6"/>
                      </a:lnTo>
                      <a:lnTo>
                        <a:pt x="64" y="1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743360" y="997200"/>
                  <a:ext cx="88560" cy="236880"/>
                </a:xfrm>
                <a:custGeom>
                  <a:avLst/>
                  <a:gdLst/>
                  <a:ahLst/>
                  <a:rect l="l" t="t" r="r" b="b"/>
                  <a:pathLst>
                    <a:path w="130" h="387">
                      <a:moveTo>
                        <a:pt x="0" y="297"/>
                      </a:moveTo>
                      <a:lnTo>
                        <a:pt x="3" y="267"/>
                      </a:lnTo>
                      <a:lnTo>
                        <a:pt x="5" y="234"/>
                      </a:lnTo>
                      <a:lnTo>
                        <a:pt x="14" y="181"/>
                      </a:lnTo>
                      <a:lnTo>
                        <a:pt x="24" y="139"/>
                      </a:lnTo>
                      <a:lnTo>
                        <a:pt x="38" y="101"/>
                      </a:lnTo>
                      <a:lnTo>
                        <a:pt x="56" y="62"/>
                      </a:lnTo>
                      <a:lnTo>
                        <a:pt x="72" y="32"/>
                      </a:lnTo>
                      <a:lnTo>
                        <a:pt x="92" y="0"/>
                      </a:lnTo>
                      <a:lnTo>
                        <a:pt x="130" y="50"/>
                      </a:lnTo>
                      <a:lnTo>
                        <a:pt x="108" y="80"/>
                      </a:lnTo>
                      <a:lnTo>
                        <a:pt x="92" y="107"/>
                      </a:lnTo>
                      <a:lnTo>
                        <a:pt x="79" y="132"/>
                      </a:lnTo>
                      <a:lnTo>
                        <a:pt x="60" y="167"/>
                      </a:lnTo>
                      <a:lnTo>
                        <a:pt x="48" y="198"/>
                      </a:lnTo>
                      <a:lnTo>
                        <a:pt x="41" y="228"/>
                      </a:lnTo>
                      <a:lnTo>
                        <a:pt x="32" y="258"/>
                      </a:lnTo>
                      <a:lnTo>
                        <a:pt x="26" y="291"/>
                      </a:lnTo>
                      <a:lnTo>
                        <a:pt x="21" y="331"/>
                      </a:lnTo>
                      <a:lnTo>
                        <a:pt x="17" y="371"/>
                      </a:lnTo>
                      <a:lnTo>
                        <a:pt x="10" y="387"/>
                      </a:lnTo>
                      <a:lnTo>
                        <a:pt x="0" y="29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8" name=""/>
            <p:cNvGrpSpPr/>
            <p:nvPr/>
          </p:nvGrpSpPr>
          <p:grpSpPr>
            <a:xfrm>
              <a:off x="4724280" y="838080"/>
              <a:ext cx="786960" cy="675000"/>
              <a:chOff x="4724280" y="838080"/>
              <a:chExt cx="786960" cy="675000"/>
            </a:xfrm>
          </p:grpSpPr>
          <p:sp>
            <p:nvSpPr>
              <p:cNvPr id="469" name=""/>
              <p:cNvSpPr/>
              <p:nvPr/>
            </p:nvSpPr>
            <p:spPr>
              <a:xfrm>
                <a:off x="4732560" y="847440"/>
                <a:ext cx="768960" cy="65808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1680">
                <a:solidFill>
                  <a:srgbClr val="9f9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724280" y="838080"/>
                <a:ext cx="786960" cy="6750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745880" y="856080"/>
                <a:ext cx="743040" cy="63828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5287320" y="1474200"/>
              <a:ext cx="403200" cy="563760"/>
              <a:chOff x="5287320" y="1474200"/>
              <a:chExt cx="403200" cy="563760"/>
            </a:xfrm>
          </p:grpSpPr>
          <p:sp>
            <p:nvSpPr>
              <p:cNvPr id="473" name=""/>
              <p:cNvSpPr/>
              <p:nvPr/>
            </p:nvSpPr>
            <p:spPr>
              <a:xfrm>
                <a:off x="5291640" y="1503360"/>
                <a:ext cx="384120" cy="493200"/>
              </a:xfrm>
              <a:custGeom>
                <a:avLst/>
                <a:gdLst/>
                <a:ahLst/>
                <a:rect l="l" t="t" r="r" b="b"/>
                <a:pathLst>
                  <a:path w="564" h="808">
                    <a:moveTo>
                      <a:pt x="0" y="60"/>
                    </a:moveTo>
                    <a:lnTo>
                      <a:pt x="400" y="808"/>
                    </a:lnTo>
                    <a:lnTo>
                      <a:pt x="564" y="725"/>
                    </a:lnTo>
                    <a:lnTo>
                      <a:pt x="16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288760" y="1474200"/>
                <a:ext cx="117720" cy="10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64" y="13933"/>
                    </a:moveTo>
                    <a:arcTo wR="10800" hR="10800" stAng="9788164" swAng="107767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64" y="13933"/>
                    </a:moveTo>
                    <a:arcTo wR="10800" hR="10800" stAng="9788164" swAng="10776769"/>
                  </a:path>
                </a:pathLst>
              </a:custGeom>
              <a:solidFill>
                <a:srgbClr val="5f3f1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291640" y="1481400"/>
                <a:ext cx="120960" cy="108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9" y="12019"/>
                    </a:moveTo>
                    <a:arcTo wR="10800" hR="10800" stAng="10411015" swAng="100577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9" y="12019"/>
                    </a:moveTo>
                    <a:arcTo wR="10800" hR="10800" stAng="10411015" swAng="10057795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87320" y="1481400"/>
                <a:ext cx="73440" cy="126720"/>
              </a:xfrm>
              <a:custGeom>
                <a:avLst/>
                <a:gdLst/>
                <a:ahLst/>
                <a:rect l="l" t="t" r="r" b="b"/>
                <a:pathLst>
                  <a:path w="107" h="207">
                    <a:moveTo>
                      <a:pt x="3" y="96"/>
                    </a:moveTo>
                    <a:lnTo>
                      <a:pt x="0" y="82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6" y="42"/>
                    </a:lnTo>
                    <a:lnTo>
                      <a:pt x="12" y="29"/>
                    </a:lnTo>
                    <a:lnTo>
                      <a:pt x="21" y="17"/>
                    </a:lnTo>
                    <a:lnTo>
                      <a:pt x="31" y="7"/>
                    </a:lnTo>
                    <a:lnTo>
                      <a:pt x="41" y="0"/>
                    </a:lnTo>
                    <a:lnTo>
                      <a:pt x="107" y="112"/>
                    </a:lnTo>
                    <a:lnTo>
                      <a:pt x="95" y="119"/>
                    </a:lnTo>
                    <a:lnTo>
                      <a:pt x="87" y="127"/>
                    </a:lnTo>
                    <a:lnTo>
                      <a:pt x="79" y="135"/>
                    </a:lnTo>
                    <a:lnTo>
                      <a:pt x="73" y="145"/>
                    </a:lnTo>
                    <a:lnTo>
                      <a:pt x="66" y="163"/>
                    </a:lnTo>
                    <a:lnTo>
                      <a:pt x="62" y="187"/>
                    </a:lnTo>
                    <a:lnTo>
                      <a:pt x="62" y="207"/>
                    </a:lnTo>
                    <a:lnTo>
                      <a:pt x="3" y="96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88760" y="1474560"/>
                <a:ext cx="119160" cy="99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94" y="13691"/>
                    </a:moveTo>
                    <a:arcTo wR="10800" hR="10800" stAng="9868244" swAng="50330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94" y="13691"/>
                    </a:moveTo>
                    <a:arcTo wR="10800" hR="10800" stAng="9868244" swAng="5033004"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330880" y="1543680"/>
                <a:ext cx="119520" cy="99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36" y="13474"/>
                    </a:moveTo>
                    <a:arcTo wR="10800" hR="10800" stAng="9939998" swAng="106137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36" y="13474"/>
                    </a:moveTo>
                    <a:arcTo wR="10800" hR="10800" stAng="9939998" swAng="10613755"/>
                  </a:path>
                </a:pathLst>
              </a:custGeom>
              <a:solidFill>
                <a:srgbClr val="7f3f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5335200" y="1553400"/>
                <a:ext cx="125280" cy="110160"/>
                <a:chOff x="5335200" y="1553400"/>
                <a:chExt cx="125280" cy="110160"/>
              </a:xfrm>
            </p:grpSpPr>
            <p:grpSp>
              <p:nvGrpSpPr>
                <p:cNvPr id="480" name=""/>
                <p:cNvGrpSpPr/>
                <p:nvPr/>
              </p:nvGrpSpPr>
              <p:grpSpPr>
                <a:xfrm>
                  <a:off x="5335200" y="1553400"/>
                  <a:ext cx="119520" cy="99000"/>
                  <a:chOff x="5335200" y="1553400"/>
                  <a:chExt cx="119520" cy="990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>
                    <a:off x="5335200" y="1553400"/>
                    <a:ext cx="1195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75" y="13220"/>
                        </a:moveTo>
                        <a:arcTo wR="10800" hR="10800" stAng="10022948" swAng="107170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75" y="13220"/>
                        </a:moveTo>
                        <a:arcTo wR="10800" hR="10800" stAng="10022948" swAng="10717050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5335200" y="1553400"/>
                    <a:ext cx="1191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75" y="13220"/>
                        </a:moveTo>
                        <a:arcTo wR="10800" hR="10800" stAng="10022948" swAng="446544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75" y="13220"/>
                        </a:moveTo>
                        <a:arcTo wR="10800" hR="10800" stAng="10022948" swAng="4465446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5336280" y="1553400"/>
                    <a:ext cx="1173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69" y="13194"/>
                        </a:moveTo>
                        <a:arcTo wR="10800" hR="10800" stAng="10031485" swAng="1061516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69" y="13194"/>
                        </a:moveTo>
                        <a:arcTo wR="10800" hR="10800" stAng="10031485" swAng="10615168"/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4" name=""/>
                <p:cNvSpPr/>
                <p:nvPr/>
              </p:nvSpPr>
              <p:spPr>
                <a:xfrm>
                  <a:off x="5341680" y="1564200"/>
                  <a:ext cx="118800" cy="9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75" y="13220"/>
                      </a:moveTo>
                      <a:arcTo wR="10800" hR="10800" stAng="10022948" swAng="106351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75" y="13220"/>
                      </a:moveTo>
                      <a:arcTo wR="10800" hR="10800" stAng="10022948" swAng="10635112"/>
                    </a:path>
                  </a:pathLst>
                </a:custGeom>
                <a:solidFill>
                  <a:srgbClr val="7f3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347080" y="1573920"/>
                <a:ext cx="125280" cy="111240"/>
                <a:chOff x="5347080" y="1573920"/>
                <a:chExt cx="125280" cy="111240"/>
              </a:xfrm>
            </p:grpSpPr>
            <p:grpSp>
              <p:nvGrpSpPr>
                <p:cNvPr id="486" name=""/>
                <p:cNvGrpSpPr/>
                <p:nvPr/>
              </p:nvGrpSpPr>
              <p:grpSpPr>
                <a:xfrm>
                  <a:off x="5347080" y="1573920"/>
                  <a:ext cx="119880" cy="100080"/>
                  <a:chOff x="5347080" y="1573920"/>
                  <a:chExt cx="119880" cy="10008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>
                    <a:off x="5347080" y="1574280"/>
                    <a:ext cx="11844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4" y="12891"/>
                        </a:moveTo>
                        <a:arcTo wR="10800" hR="10800" stAng="10130033" swAng="1059946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4" y="12891"/>
                        </a:moveTo>
                        <a:arcTo wR="10800" hR="10800" stAng="10130033" swAng="1059946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5347080" y="1573920"/>
                    <a:ext cx="119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4" y="12891"/>
                        </a:moveTo>
                        <a:arcTo wR="10800" hR="10800" stAng="10130033" swAng="434182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4" y="12891"/>
                        </a:moveTo>
                        <a:arcTo wR="10800" hR="10800" stAng="10130033" swAng="4341825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5347080" y="1574280"/>
                    <a:ext cx="119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75" y="13220"/>
                        </a:moveTo>
                        <a:arcTo wR="10800" hR="10800" stAng="10022948" swAng="107170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75" y="13220"/>
                        </a:moveTo>
                        <a:arcTo wR="10800" hR="10800" stAng="10022948" swAng="10717050"/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0" name=""/>
                <p:cNvSpPr/>
                <p:nvPr/>
              </p:nvSpPr>
              <p:spPr>
                <a:xfrm>
                  <a:off x="5353560" y="1585080"/>
                  <a:ext cx="118800" cy="100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57" y="13141"/>
                      </a:moveTo>
                      <a:arcTo wR="10800" hR="10800" stAng="10048788" swAng="1068070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57" y="13141"/>
                      </a:moveTo>
                      <a:arcTo wR="10800" hR="10800" stAng="10048788" swAng="10680707"/>
                    </a:path>
                  </a:pathLst>
                </a:custGeom>
                <a:solidFill>
                  <a:srgbClr val="7f3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359320" y="1593360"/>
                <a:ext cx="119160" cy="100080"/>
                <a:chOff x="5359320" y="1593360"/>
                <a:chExt cx="119160" cy="10008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5359320" y="1593720"/>
                  <a:ext cx="118080" cy="99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4" y="12891"/>
                      </a:moveTo>
                      <a:arcTo wR="10800" hR="10800" stAng="10130033" swAng="107014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4" y="12891"/>
                      </a:moveTo>
                      <a:arcTo wR="10800" hR="10800" stAng="10130033" swAng="10701453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359320" y="1593360"/>
                  <a:ext cx="119160" cy="99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4" y="12891"/>
                      </a:moveTo>
                      <a:arcTo wR="10800" hR="10800" stAng="10130033" swAng="43418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4" y="12891"/>
                      </a:moveTo>
                      <a:arcTo wR="10800" hR="10800" stAng="10130033" swAng="4341825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5359320" y="1593720"/>
                <a:ext cx="124920" cy="109800"/>
                <a:chOff x="5359320" y="1593720"/>
                <a:chExt cx="124920" cy="1098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5359320" y="1593720"/>
                  <a:ext cx="119880" cy="9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9" y="12963"/>
                      </a:moveTo>
                      <a:arcTo wR="10800" hR="10800" stAng="10106828" swAng="106331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9" y="12963"/>
                      </a:moveTo>
                      <a:arcTo wR="10800" hR="10800" stAng="10106828" swAng="10633171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365800" y="1604520"/>
                  <a:ext cx="118440" cy="9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4" y="12891"/>
                      </a:moveTo>
                      <a:arcTo wR="10800" hR="10800" stAng="10130033" swAng="105994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4" y="12891"/>
                      </a:moveTo>
                      <a:arcTo wR="10800" hR="10800" stAng="10130033" swAng="10599462"/>
                    </a:path>
                  </a:pathLst>
                </a:custGeom>
                <a:solidFill>
                  <a:srgbClr val="7f3f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5291640" y="1504440"/>
                <a:ext cx="385200" cy="495360"/>
                <a:chOff x="5291640" y="1504440"/>
                <a:chExt cx="385200" cy="4953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5402880" y="1504440"/>
                  <a:ext cx="273960" cy="440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291640" y="1539720"/>
                  <a:ext cx="273600" cy="460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371920" y="1612800"/>
                <a:ext cx="124920" cy="107280"/>
                <a:chOff x="5371920" y="1612800"/>
                <a:chExt cx="124920" cy="107280"/>
              </a:xfrm>
            </p:grpSpPr>
            <p:grpSp>
              <p:nvGrpSpPr>
                <p:cNvPr id="501" name=""/>
                <p:cNvGrpSpPr/>
                <p:nvPr/>
              </p:nvGrpSpPr>
              <p:grpSpPr>
                <a:xfrm>
                  <a:off x="5371920" y="1612800"/>
                  <a:ext cx="119160" cy="99000"/>
                  <a:chOff x="5371920" y="1612800"/>
                  <a:chExt cx="119160" cy="9900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5371920" y="1613160"/>
                    <a:ext cx="1180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8" y="12638"/>
                        </a:moveTo>
                        <a:arcTo wR="10800" hR="10800" stAng="10212044" swAng="106194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8" y="12638"/>
                        </a:moveTo>
                        <a:arcTo wR="10800" hR="10800" stAng="10212044" swAng="10619442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5371920" y="1612800"/>
                    <a:ext cx="1191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8" y="12638"/>
                        </a:moveTo>
                        <a:arcTo wR="10800" hR="10800" stAng="10212044" swAng="425981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8" y="12638"/>
                        </a:moveTo>
                        <a:arcTo wR="10800" hR="10800" stAng="10212044" swAng="4259814"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4" name=""/>
                <p:cNvSpPr/>
                <p:nvPr/>
              </p:nvSpPr>
              <p:spPr>
                <a:xfrm>
                  <a:off x="5371920" y="1613160"/>
                  <a:ext cx="119160" cy="9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9" y="12963"/>
                      </a:moveTo>
                      <a:arcTo wR="10800" hR="10800" stAng="10106828" swAng="107161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9" y="12963"/>
                      </a:moveTo>
                      <a:arcTo wR="10800" hR="10800" stAng="10106828" swAng="10716120"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376960" y="1621440"/>
                  <a:ext cx="119880" cy="98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36" y="13474"/>
                      </a:moveTo>
                      <a:arcTo wR="10800" hR="10800" stAng="9939998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36" y="13474"/>
                      </a:moveTo>
                      <a:arcTo wR="10800" hR="10800" stAng="9939998" swAng="10800000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6" name=""/>
              <p:cNvSpPr/>
              <p:nvPr/>
            </p:nvSpPr>
            <p:spPr>
              <a:xfrm>
                <a:off x="5374440" y="1624320"/>
                <a:ext cx="236880" cy="365040"/>
              </a:xfrm>
              <a:custGeom>
                <a:avLst/>
                <a:gdLst/>
                <a:ahLst/>
                <a:rect l="l" t="t" r="r" b="b"/>
                <a:pathLst>
                  <a:path w="348" h="597">
                    <a:moveTo>
                      <a:pt x="44" y="0"/>
                    </a:moveTo>
                    <a:lnTo>
                      <a:pt x="31" y="8"/>
                    </a:lnTo>
                    <a:lnTo>
                      <a:pt x="21" y="16"/>
                    </a:lnTo>
                    <a:lnTo>
                      <a:pt x="12" y="26"/>
                    </a:lnTo>
                    <a:lnTo>
                      <a:pt x="8" y="36"/>
                    </a:lnTo>
                    <a:lnTo>
                      <a:pt x="4" y="47"/>
                    </a:lnTo>
                    <a:lnTo>
                      <a:pt x="1" y="58"/>
                    </a:lnTo>
                    <a:lnTo>
                      <a:pt x="0" y="71"/>
                    </a:lnTo>
                    <a:lnTo>
                      <a:pt x="0" y="86"/>
                    </a:lnTo>
                    <a:lnTo>
                      <a:pt x="270" y="597"/>
                    </a:lnTo>
                    <a:lnTo>
                      <a:pt x="348" y="543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561280" y="1927080"/>
                <a:ext cx="129240" cy="110880"/>
              </a:xfrm>
              <a:prstGeom prst="ellipse">
                <a:avLst/>
              </a:prstGeom>
              <a:solidFill>
                <a:srgbClr val="7f5f3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4757040" y="892800"/>
              <a:ext cx="786600" cy="67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5562720" y="609480"/>
            <a:ext cx="449280" cy="463680"/>
          </a:xfrm>
          <a:prstGeom prst="can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486400" y="1066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609480"/>
            <a:ext cx="2994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nglis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evanz &amp; Autor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6360" y="5950080"/>
            <a:ext cx="6755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ration“ von Relevanz- und Autoritätsmaß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ch (ad hoc) gewichtete Lineark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0AB-866F-431A-80AA-DBBFB11BA0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.1 Information-Retrieval-Syst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3720" y="981000"/>
            <a:ext cx="7612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formation Retrieval (IR) ist die Technologie zum Su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Kollektionen (Korpora, Intranets, We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wach strukturierter Dokumente: Text, HTML, XML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runter fällt au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xt- und Struktur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haltserschließung und -re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ruppierung und Klassifik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sammenfas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iltern und Personalisieren (z.B. von Nachrichten-“Feeds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outing“ (Metasu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52160" y="5380200"/>
            <a:ext cx="7002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lobales Z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ormationsbedürfnisse befriedigen - und da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eitigung des Engpasses (teurer) intellektueller Ze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A2C-4357-4038-B5CE-2682182236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itere IR-Mod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9160" y="1197000"/>
            <a:ext cx="7859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robabilistisches Retrieval &amp; Statistische Sprachmodel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anking aufgrund von Relevanzwahrscheinlichkei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aus - geschätzten - Basisparametern abgeleite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uzzy-Set-Mode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ueries (inkl. einzelner Terme) beschreiben Fuzzy-M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Dokumenten als Elementen vom Gra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[0,1]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ngenoperationen verwenden Funktionen max, min, 1-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atent Semantic Index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rücksichtigung von Termkorrelationen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nsformation des Term-Vektorraums in 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men-Vektorraum niedrigerer Dimensiona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Neuronale Netz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 andere Inferenznet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m Lernen von Termgew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91E-BD97-4642-ADEC-3B561225A1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4 Anfrageausführung mit Ra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36880" y="4508640"/>
            <a:ext cx="77212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Naiver QP Algorithm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ndidate-docs :=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or i=1 to z d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ndidate-docs := candidate-doc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index-lookup(ti)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or each dj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candidate-docs do {compute score(q,dj)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ort candidate-docs by score(q,dj) descending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549360"/>
            <a:ext cx="7777080" cy="863640"/>
          </a:xfrm>
          <a:prstGeom prst="triangle">
            <a:avLst>
              <a:gd name="adj" fmla="val 50009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7640" y="105264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66400" y="692280"/>
            <a:ext cx="1468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chb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95640" y="1341360"/>
            <a:ext cx="718920" cy="1511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123280" y="1341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17: 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123280" y="1557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44: 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6200000">
            <a:off x="2076120" y="23976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52000" y="1052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77440" y="90792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13440" y="105264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z-trans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37800" y="90792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23280" y="1773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52: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23280" y="198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53: 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23280" y="2205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55: 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40360" y="1341360"/>
            <a:ext cx="718920" cy="172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68000" y="1341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12: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068000" y="1557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14: 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rot="16200000">
            <a:off x="4055760" y="26136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68000" y="1773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28: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68000" y="198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44: 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68000" y="2205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51: 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68000" y="2421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52: 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191280" y="1341360"/>
            <a:ext cx="719280" cy="100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20720" y="1557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17: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20720" y="1773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28: 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6200000">
            <a:off x="6073560" y="19652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23280" y="1341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Times New Roman"/>
              </a:rPr>
              <a:t>17: 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122520" y="1557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Times New Roman"/>
              </a:rPr>
              <a:t>17: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23280" y="1557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3300"/>
                </a:solidFill>
                <a:latin typeface="Times New Roman"/>
              </a:rPr>
              <a:t>44: 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066560" y="1989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3300"/>
                </a:solidFill>
                <a:latin typeface="Times New Roman"/>
              </a:rPr>
              <a:t>44: 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20720" y="1341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11: 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-360" y="1527120"/>
            <a:ext cx="1978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dexliste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DocId, tf*i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ortiert n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3068640"/>
            <a:ext cx="82440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geben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Query q = 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... 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mit z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Ähnlichkeitsfunktion score(q,d) für Dok. d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, z.B.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d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Top-k-Resultate bzgl. score(q,d) (z.B.: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d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11280" y="1557360"/>
            <a:ext cx="2268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oo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gt; 10 Mio. Te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gt; 4 Bio. D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gt; 4 TB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7885080" y="3284640"/>
                <a:ext cx="6890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4402-A95E-4358-BC63-6575138D39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1844640"/>
            <a:ext cx="9144000" cy="165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3500280"/>
            <a:ext cx="9144000" cy="4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765000"/>
            <a:ext cx="914400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64000" y="4365720"/>
            <a:ext cx="863640" cy="187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19640" y="4941720"/>
            <a:ext cx="1079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780000" y="4365720"/>
            <a:ext cx="863280" cy="187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941720"/>
            <a:ext cx="1079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66920" y="4365720"/>
            <a:ext cx="863640" cy="1873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124000" y="4941720"/>
            <a:ext cx="1079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35280" y="4365720"/>
            <a:ext cx="1079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9640" y="4365720"/>
            <a:ext cx="1079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24000" y="4653000"/>
            <a:ext cx="1079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35280" y="4653000"/>
            <a:ext cx="1079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219640" y="4653000"/>
            <a:ext cx="1079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124000" y="4365720"/>
            <a:ext cx="1079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gin’s TA (Threshold Algorith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9240" y="765000"/>
            <a:ext cx="89247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can all lists L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(i=1..m) in parall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sider dj at position pos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n L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= s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d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dj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p-k the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ok up s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dj) in all lists L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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;  // random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mpute s(dj) := aggr {s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dj) |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1..m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s(dj) &gt; min score among top-k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d dj to top-k and remove min-score d from top-k;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min score among top-k </a:t>
            </a:r>
            <a:r>
              <a:rPr b="1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aggr {high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| </a:t>
            </a:r>
            <a:r>
              <a:rPr b="1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=1..m}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hen ex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4360" y="4726080"/>
            <a:ext cx="13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ggr: 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69080" y="4365720"/>
            <a:ext cx="8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Times New Roman"/>
              </a:rPr>
              <a:t>f: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0000"/>
                </a:solidFill>
                <a:latin typeface="Times New Roman"/>
              </a:rPr>
              <a:t>b: 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9900"/>
                </a:solidFill>
                <a:latin typeface="Times New Roman"/>
              </a:rPr>
              <a:t>c: 0.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3300"/>
                </a:solidFill>
                <a:latin typeface="Times New Roman"/>
              </a:rPr>
              <a:t>a: 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900"/>
                </a:solidFill>
                <a:latin typeface="Times New Roman"/>
              </a:rPr>
              <a:t>h: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: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80720" y="4365720"/>
            <a:ext cx="8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3300"/>
                </a:solidFill>
                <a:latin typeface="Times New Roman"/>
              </a:rPr>
              <a:t>a: 0.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0000"/>
                </a:solidFill>
                <a:latin typeface="Times New Roman"/>
              </a:rPr>
              <a:t>b: 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Times New Roman"/>
              </a:rPr>
              <a:t>f: 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99"/>
                </a:solidFill>
                <a:latin typeface="Times New Roman"/>
              </a:rPr>
              <a:t>g: 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9900"/>
                </a:solidFill>
                <a:latin typeface="Times New Roman"/>
              </a:rPr>
              <a:t>c: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65080" y="4365720"/>
            <a:ext cx="84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900"/>
                </a:solidFill>
                <a:latin typeface="Times New Roman"/>
              </a:rPr>
              <a:t>h: 0.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: 0.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0000"/>
                </a:solidFill>
                <a:latin typeface="Times New Roman"/>
              </a:rPr>
              <a:t>b: 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3300"/>
                </a:solidFill>
                <a:latin typeface="Times New Roman"/>
              </a:rPr>
              <a:t>a: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9900"/>
                </a:solidFill>
                <a:latin typeface="Times New Roman"/>
              </a:rPr>
              <a:t>c: 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Times New Roman"/>
              </a:rPr>
              <a:t>f: 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04720" y="501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Times New Roman"/>
              </a:rPr>
              <a:t>f: 0.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05080" y="53737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3300"/>
                </a:solidFill>
                <a:latin typeface="Times New Roman"/>
              </a:rPr>
              <a:t>a: 0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734160" y="4437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p-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05080" y="573408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0000"/>
                </a:solidFill>
                <a:latin typeface="Times New Roman"/>
              </a:rPr>
              <a:t>b: 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732720" y="5192640"/>
            <a:ext cx="863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93640" y="388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25800" y="388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510160" y="388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B32-B396-4F46-A90C-CBB786DE45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1628640"/>
            <a:ext cx="914400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620640"/>
            <a:ext cx="9144000" cy="100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2852640"/>
            <a:ext cx="914400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66920" y="4365720"/>
            <a:ext cx="863640" cy="1873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777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-Sorted (Fagin, Güntzer et al.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9240" y="549360"/>
            <a:ext cx="892476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can index lists in parall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sider dj at position pos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n L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(dj) := E(dj) 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{i}; high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:= si(q,d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bestscore(dj)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:= aggr{x1, ..., x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ith xi := si(q,dj) for i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(dj), high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for i 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(d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worstscore(dj)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:= aggr{x1, ..., x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ith xi := si(q,dj) for i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(dj), 0 for i 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(d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op-k := k docs with largest worstsco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min worstscore among top-k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de-DE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   bestscore{d | d not in top-k}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hen ex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80000" y="4365720"/>
            <a:ext cx="863280" cy="187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64000" y="4365720"/>
            <a:ext cx="863640" cy="187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4360" y="4726080"/>
            <a:ext cx="139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ggr: 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780720" y="4365720"/>
            <a:ext cx="8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3300"/>
                </a:solidFill>
                <a:latin typeface="Times New Roman"/>
              </a:rPr>
              <a:t>a: 0.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0000"/>
                </a:solidFill>
                <a:latin typeface="Times New Roman"/>
              </a:rPr>
              <a:t>b: 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Times New Roman"/>
              </a:rPr>
              <a:t>f: 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99"/>
                </a:solidFill>
                <a:latin typeface="Times New Roman"/>
              </a:rPr>
              <a:t>g: 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9900"/>
                </a:solidFill>
                <a:latin typeface="Times New Roman"/>
              </a:rPr>
              <a:t>c: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65080" y="4365720"/>
            <a:ext cx="842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900"/>
                </a:solidFill>
                <a:latin typeface="Times New Roman"/>
              </a:rPr>
              <a:t>h: 0.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: 0.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0000"/>
                </a:solidFill>
                <a:latin typeface="Times New Roman"/>
              </a:rPr>
              <a:t>b: 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3300"/>
                </a:solidFill>
                <a:latin typeface="Times New Roman"/>
              </a:rPr>
              <a:t>a: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9900"/>
                </a:solidFill>
                <a:latin typeface="Times New Roman"/>
              </a:rPr>
              <a:t>c: 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Times New Roman"/>
              </a:rPr>
              <a:t>f: 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89800" y="3933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p-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89080" y="49417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did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95640" y="5516640"/>
            <a:ext cx="107928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69080" y="4365720"/>
            <a:ext cx="8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Times New Roman"/>
              </a:rPr>
              <a:t>f: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0000"/>
                </a:solidFill>
                <a:latin typeface="Times New Roman"/>
              </a:rPr>
              <a:t>b: 0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9900"/>
                </a:solidFill>
                <a:latin typeface="Times New Roman"/>
              </a:rPr>
              <a:t>c: 0.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3300"/>
                </a:solidFill>
                <a:latin typeface="Times New Roman"/>
              </a:rPr>
              <a:t>a: 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9900"/>
                </a:solidFill>
                <a:latin typeface="Times New Roman"/>
              </a:rPr>
              <a:t>h: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d: 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2050920" y="4365720"/>
            <a:ext cx="7142040" cy="2493720"/>
            <a:chOff x="2050920" y="4365720"/>
            <a:chExt cx="7142040" cy="2493720"/>
          </a:xfrm>
        </p:grpSpPr>
        <p:sp>
          <p:nvSpPr>
            <p:cNvPr id="597" name=""/>
            <p:cNvSpPr/>
            <p:nvPr/>
          </p:nvSpPr>
          <p:spPr>
            <a:xfrm>
              <a:off x="6732720" y="6127920"/>
              <a:ext cx="241128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32720" y="6667560"/>
              <a:ext cx="241128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02840" y="5373720"/>
              <a:ext cx="221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333cc"/>
                  </a:solidFill>
                  <a:latin typeface="Times New Roman"/>
                </a:rPr>
                <a:t>f: 0.7 + ?  </a:t>
              </a:r>
              <a:r>
                <a:rPr b="1" lang="de-DE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de-DE" sz="1800" spc="-1" strike="noStrike">
                  <a:solidFill>
                    <a:srgbClr val="3333cc"/>
                  </a:solidFill>
                  <a:latin typeface="Times New Roman"/>
                </a:rPr>
                <a:t> 0.7 + 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88720" y="4365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3300"/>
                  </a:solidFill>
                  <a:latin typeface="Times New Roman"/>
                </a:rPr>
                <a:t>a: 0.95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684120" y="5654520"/>
              <a:ext cx="24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9900"/>
                  </a:solidFill>
                  <a:latin typeface="Times New Roman"/>
                </a:rPr>
                <a:t>h: 0.35 + ?  </a:t>
              </a:r>
              <a:r>
                <a:rPr b="1" lang="de-DE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</a:t>
              </a:r>
              <a:r>
                <a:rPr b="1" lang="de-DE" sz="1800" spc="-1" strike="noStrike">
                  <a:solidFill>
                    <a:srgbClr val="009900"/>
                  </a:solidFill>
                  <a:latin typeface="Times New Roman"/>
                </a:rPr>
                <a:t> 0.35 + 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89080" y="465444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990000"/>
                  </a:solidFill>
                  <a:latin typeface="Times New Roman"/>
                </a:rPr>
                <a:t>b: 0.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050920" y="5516640"/>
              <a:ext cx="43214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703200" y="6237360"/>
              <a:ext cx="24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d: 0.35 + ?  </a:t>
              </a:r>
              <a:r>
                <a:rPr b="1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 0.35 + 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708960" y="594216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9900"/>
                  </a:solidFill>
                  <a:latin typeface="Times New Roman"/>
                </a:rPr>
                <a:t>c: 0.35 + ?  </a:t>
              </a:r>
              <a:r>
                <a:rPr b="1" lang="de-DE" sz="18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</a:t>
              </a:r>
              <a:r>
                <a:rPr b="1" lang="de-DE" sz="1800" spc="-1" strike="noStrike">
                  <a:solidFill>
                    <a:srgbClr val="ff9900"/>
                  </a:solidFill>
                  <a:latin typeface="Times New Roman"/>
                </a:rPr>
                <a:t> 0.35 + 0.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83760" y="6491160"/>
              <a:ext cx="22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cc0099"/>
                  </a:solidFill>
                  <a:latin typeface="Times New Roman"/>
                </a:rPr>
                <a:t>g: 0.2 + ?  </a:t>
              </a:r>
              <a:r>
                <a:rPr b="1" lang="de-DE" sz="18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</a:t>
              </a:r>
              <a:r>
                <a:rPr b="1" lang="de-DE" sz="1800" spc="-1" strike="noStrike">
                  <a:solidFill>
                    <a:srgbClr val="cc0099"/>
                  </a:solidFill>
                  <a:latin typeface="Times New Roman"/>
                </a:rPr>
                <a:t> 0.2 + 0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732720" y="5551560"/>
              <a:ext cx="2411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551640" y="5661000"/>
            <a:ext cx="2603160" cy="368280"/>
            <a:chOff x="6551640" y="5661000"/>
            <a:chExt cx="2603160" cy="368280"/>
          </a:xfrm>
        </p:grpSpPr>
        <p:sp>
          <p:nvSpPr>
            <p:cNvPr id="609" name=""/>
            <p:cNvSpPr/>
            <p:nvPr/>
          </p:nvSpPr>
          <p:spPr>
            <a:xfrm>
              <a:off x="6551640" y="5661000"/>
              <a:ext cx="259236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665040" y="5661000"/>
              <a:ext cx="24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9900"/>
                  </a:solidFill>
                  <a:latin typeface="Times New Roman"/>
                </a:rPr>
                <a:t>h: 0.45 + ?  </a:t>
              </a:r>
              <a:r>
                <a:rPr b="1" lang="de-DE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</a:t>
              </a:r>
              <a:r>
                <a:rPr b="1" lang="de-DE" sz="1800" spc="-1" strike="noStrike">
                  <a:solidFill>
                    <a:srgbClr val="009900"/>
                  </a:solidFill>
                  <a:latin typeface="Times New Roman"/>
                </a:rPr>
                <a:t> 0.45 + 0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94560" y="5837400"/>
              <a:ext cx="2411280" cy="0"/>
            </a:xfrm>
            <a:prstGeom prst="line">
              <a:avLst/>
            </a:prstGeom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516720" y="6237360"/>
            <a:ext cx="2641320" cy="368280"/>
            <a:chOff x="6516720" y="6237360"/>
            <a:chExt cx="2641320" cy="368280"/>
          </a:xfrm>
        </p:grpSpPr>
        <p:sp>
          <p:nvSpPr>
            <p:cNvPr id="613" name=""/>
            <p:cNvSpPr/>
            <p:nvPr/>
          </p:nvSpPr>
          <p:spPr>
            <a:xfrm>
              <a:off x="6516720" y="6237360"/>
              <a:ext cx="2627280" cy="36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668280" y="6237360"/>
              <a:ext cx="24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d: 0.35 + ?  </a:t>
              </a:r>
              <a:r>
                <a:rPr b="1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 0.35 + 0.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697800" y="6413400"/>
              <a:ext cx="24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393640" y="388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925800" y="388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510160" y="3881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A16-5A02-402A-BC7C-17BDBF4D15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5 Grundlagen aus der Linearen Alge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-9360" y="914400"/>
            <a:ext cx="917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Menge S von Vektoren heißt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linear unabhängi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enn sich k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 als Linearkombination der anderen Vektoren aus S schreiben läs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an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iner Matrix A ist die maximale Anz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near unabhängiger Zeilen- oder Spaltenvekto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asi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iner n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-Matrix A ist eine Menge S von Zeilen- bz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altenvektoren, so dass alle Zeilen bzw. Spalten Linearkombin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Vektoren aus S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Menge S von n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-Vektoren heißt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Orthonormalbasi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enn fü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e x, y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 gil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130480" y="3838680"/>
                <a:ext cx="491472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d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271-2EFD-41E1-8178-5BB78D692F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genwerte und Eigenvekt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1480" y="609480"/>
            <a:ext cx="87991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ien A eine reellwertige n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-Matrix, x ein reellwertiger n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-Ve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in reeller Skalarwert. Die Lösungen x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er Gle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x =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 heißen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genvekto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bzw.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genwer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Eigenvektoren von A sind Vektoren, deren Richtungen bei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rch A beschriebenen Linearabbildung erhalten blei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3920" y="2438280"/>
            <a:ext cx="5851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Eigenwerte von A sind die Nullstellen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istischen Polynoms 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von 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345280" y="2743200"/>
                <a:ext cx="23684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λI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1440" y="4572000"/>
            <a:ext cx="915552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reellwertige n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-Matrix A heißt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ymmetrisch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enn 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alle i, j.  A heißt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ositiv defini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enn für alle n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-Vekto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cript MT Bold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gilt: x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x &gt; 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n A symmetrisch ist, sind alle Eigenwerte von A re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n A symmetrisch und positiv definit ist, sind alle Eigenwerte posit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3040" y="320040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 der Determinantenentwicklung nach der i-ten Ze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28600" y="3505320"/>
                <a:ext cx="307800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3390840" y="3657600"/>
            <a:ext cx="5761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obei man die Matrix 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(ij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s A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reichung der i. Zeile und der j. Spalte erhä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987-56D9-432B-AB22-EC5DB8AAA5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 von Eigenvekt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3564000" y="1125360"/>
            <a:ext cx="5327640" cy="51451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250920" y="117936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258920" y="981000"/>
          <a:ext cx="127800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981000"/>
                    <a:ext cx="12780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"/>
          <p:cNvSpPr/>
          <p:nvPr/>
        </p:nvSpPr>
        <p:spPr>
          <a:xfrm>
            <a:off x="303480" y="2063880"/>
            <a:ext cx="15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chrei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ffine Ab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2050920" y="2492280"/>
          <a:ext cx="1070280" cy="3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2492280"/>
                    <a:ext cx="107028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"/>
          <p:cNvSpPr/>
          <p:nvPr/>
        </p:nvSpPr>
        <p:spPr>
          <a:xfrm>
            <a:off x="322200" y="3933720"/>
            <a:ext cx="3138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genvek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1 = (0.52  0.85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m Eigenwert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=3.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2200" y="5129280"/>
            <a:ext cx="3138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genvek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2 = (0.85  -0.52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m Eigenwert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=1.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754-3458-4575-8B44-A36EAA6042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ktralsatz der Linearen Alge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12040" y="836640"/>
            <a:ext cx="894384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pektralsat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(Hauptachsentransformation, Principal Component Analysis, PC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i A eine symmetrische n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-Matrix mit Eigenwert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, ...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Eigenvektoren x1, ..., xn, so dass                   für alle 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Eigenvektoren bilden eine Orthonormalbasis von 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nn gil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 = QT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Q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obei D eine Diagonalmatrix ist mit den Diagonalelement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, ...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Q aus den Spaltenvektoren x1, ..., xn besteh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4932360" y="1989000"/>
          <a:ext cx="122400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989000"/>
                    <a:ext cx="12240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87D-3B7F-4154-BD04-5F20AAF146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6 Latent Semantic Indexing (LSI): Grundid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23120" y="685800"/>
            <a:ext cx="874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nsformation der Dokumentvektoren v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chdimensionalen Termvektorraum in 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hemenvektorrau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niedrigerer Dimensionalität 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nutzung von Korrelationen zwischen T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z.B. „Web“ und „Internet“ häufig zusamm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mplizite Differenzierung von Polysemen, die s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ihren Korrelationen mit anderen Termen untersch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z.B. „Java“ mit „Library“ vs. „Java“ mit „Kona Blend“ vs. „Java“ mit „Borneo“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41560" y="4365720"/>
            <a:ext cx="83768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hematis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geben: m Terme, n Dokumente (i.d.R. n &gt; m) und 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Term-Dokument-Ähnlichkeitsmatrix 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ucht: möglichst gute – ähnlichkeitsbewahrende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bildung der Spaltenvektoren v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inen k-dimensionalen Vektorraum (k &lt;&lt; m) für gegebenes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6169-FFF7-4017-8A2B-EA89295757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kurs: Singulärwertdekomposition (SV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13400" y="690480"/>
            <a:ext cx="85503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at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de reellwertige m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-Matrix A mit Rang r kann zerleg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die Form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 = U 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einer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-Matrix U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mit orthonormalen Spaltenvektor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r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-Diagonalmatrix 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r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-Matrix V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mit orthonormalen Spaltenvekto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se Zerlegung heißt Singulärwertdekomposition und ist eindeuti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n die Elemente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er Größe nach geordne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6040" y="3657600"/>
            <a:ext cx="815112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t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er Singulärwertdekomposition A = 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Matrix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d U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d V wie folgt bestimm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eht aus den Singulärwerten von 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h. den positiven Wurzeln der Eigenwerte von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Spaltenvektoren von U sind die Eigenvektoren von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Spaltenvektoren von V sind die Eigenvektoren von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70A-0972-4CE2-BEE4-DB24377498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nittstellen von IR-Syst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92800" y="1052640"/>
            <a:ext cx="7655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usga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nge von Dokumenten, die Suchstring(s) enthalt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reitexts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nge inhaltlich relevanter Dokumente: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nhaltss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geordnete Menge: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oolesches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ch Relevanz absteigend sortierte Ranglis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anked Retrieva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Ähnlichkeitssu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ga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ywords (positiv/negativ) (plus Phrasen, ganze Sät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Boolesche) Ausdrücke über Keyword-Bedin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rukturbedingungen (z.B. Tags, Lin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ntologisch basierte Bedin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chsprache (z.B. SQL mit interMe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A3B-CAA7-4EC1-BCEB-ACAEBED205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ematische Darstellung der SV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608760" y="3581280"/>
            <a:ext cx="8571600" cy="2517120"/>
            <a:chOff x="608760" y="3581280"/>
            <a:chExt cx="8571600" cy="2517120"/>
          </a:xfrm>
        </p:grpSpPr>
        <p:sp>
          <p:nvSpPr>
            <p:cNvPr id="653" name=""/>
            <p:cNvSpPr/>
            <p:nvPr/>
          </p:nvSpPr>
          <p:spPr>
            <a:xfrm>
              <a:off x="2172960" y="5257800"/>
              <a:ext cx="76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276720" y="4191120"/>
              <a:ext cx="1523880" cy="121896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87560" y="5257800"/>
              <a:ext cx="6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09480" y="3581280"/>
              <a:ext cx="1600200" cy="19051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354480" y="4114800"/>
              <a:ext cx="51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268520" y="4952880"/>
              <a:ext cx="4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2443800">
              <a:off x="3886920" y="441936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92560" y="4114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30440" y="4724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638680" y="4191120"/>
              <a:ext cx="2971800" cy="121896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502840" y="5334120"/>
              <a:ext cx="67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8760" y="3962520"/>
              <a:ext cx="162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rm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men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Ähnlichke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790240" y="4343400"/>
              <a:ext cx="2672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men-Dokument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Ähnlichke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21480" y="5638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11680" y="5632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39120" y="5562720"/>
              <a:ext cx="50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09480" y="990720"/>
            <a:ext cx="4374360" cy="2593080"/>
            <a:chOff x="609480" y="990720"/>
            <a:chExt cx="4374360" cy="2593080"/>
          </a:xfrm>
        </p:grpSpPr>
        <p:sp>
          <p:nvSpPr>
            <p:cNvPr id="670" name=""/>
            <p:cNvSpPr/>
            <p:nvPr/>
          </p:nvSpPr>
          <p:spPr>
            <a:xfrm>
              <a:off x="609480" y="1447920"/>
              <a:ext cx="3048120" cy="190476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5200" y="1905120"/>
              <a:ext cx="2539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rm-Dokument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Ähnlichkeitsmatri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97560" y="3124080"/>
              <a:ext cx="81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73080" y="2057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983240" y="990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AD3D-1EF6-45A2-92BF-5E80CCA800F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kurs: SVD als Regressionsverf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5320" y="662040"/>
            <a:ext cx="867384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at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i A eine m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-Matrix mit Rang r und sei Ak = U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obei die k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-Diagonalmatrix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ie k größten Singulärwerte v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hält und die m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-Matrix U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owie die n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-Matrix V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s 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ehörigen Eigenvektoren der Singulärwertdekomposition v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teh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 allen m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-Matrizen C mit einem Rang, der nicht größer als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t, ist 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iejenige Matrix, die den W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nimiert (die Frobenius-Nor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28600" y="3581280"/>
                <a:ext cx="35812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8" name=""/>
          <p:cNvSpPr/>
          <p:nvPr/>
        </p:nvSpPr>
        <p:spPr>
          <a:xfrm>
            <a:off x="5486400" y="64008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5486400" y="39621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23140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41188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5486400" y="5410080"/>
            <a:ext cx="3352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4952880" y="4800240"/>
            <a:ext cx="5335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707320" y="4952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54320" y="4419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715000" y="6095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019920" y="6172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324480" y="55627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705720" y="60958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620120" y="6172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848720" y="5791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153280" y="58672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924680" y="51055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153280" y="5257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99720" y="4876920"/>
            <a:ext cx="288432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=2, n=8, k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ktion auf x‘-Ach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ert „Fehler“ bz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ert Varian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 k-dimensionalen R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359-95CC-400D-9D27-7708C4DFF9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wendung der SVD auf das Vektorraummod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360" y="692280"/>
            <a:ext cx="9169920" cy="23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 ist die m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-Term-Dokument-Ähnlichkeitsmatrix. Dann s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 bzw. U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ie m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- bzw. m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-Term-Themen-Ähnlichkeitsmatri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 bzw. V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ie n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- bzw. n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-Dokument-Themen-Ähnlichkeits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bzw. 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ie m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-Term-Term-Ähnlichkeitsmatri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 bzw. 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ie n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-Dokument-Dokument-Ähnlichkeits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0" y="2637000"/>
            <a:ext cx="9144000" cy="2314440"/>
            <a:chOff x="0" y="2637000"/>
            <a:chExt cx="9144000" cy="2314440"/>
          </a:xfrm>
        </p:grpSpPr>
        <p:sp>
          <p:nvSpPr>
            <p:cNvPr id="699" name=""/>
            <p:cNvSpPr/>
            <p:nvPr/>
          </p:nvSpPr>
          <p:spPr>
            <a:xfrm>
              <a:off x="0" y="26370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26920" y="3359160"/>
              <a:ext cx="201636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60" y="3935520"/>
              <a:ext cx="77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term 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20360" y="299880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doc 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28720" y="379116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.................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6200000">
              <a:off x="1225440" y="375444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.......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7440" y="321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385000" y="4511880"/>
              <a:ext cx="65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89440" y="379116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535200" y="3430800"/>
              <a:ext cx="100836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72560" y="458316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46840" y="3648240"/>
              <a:ext cx="100944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596560" y="4440240"/>
              <a:ext cx="5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516720" y="3646440"/>
              <a:ext cx="187308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858800" y="4438800"/>
              <a:ext cx="55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02160" y="379116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84720" y="379116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78840" y="2925720"/>
              <a:ext cx="8557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lat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topic 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6200000">
              <a:off x="3357360" y="382608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.......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061440" y="31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537000" y="379116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....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375600" y="38624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...............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2141400">
              <a:off x="5190120" y="37922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.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80600" y="357660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de-DE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99880" y="415296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de-DE" sz="1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19560" y="4079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95920" y="371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88640" y="313848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240600" y="3137040"/>
              <a:ext cx="59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V </a:t>
              </a:r>
              <a:r>
                <a:rPr b="1" lang="de-DE" sz="24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16200000">
              <a:off x="7105320" y="385128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..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10160" y="328608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doc 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286840" y="3862440"/>
              <a:ext cx="857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lat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imes New Roman"/>
                </a:rPr>
                <a:t>topic 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826920" y="3141720"/>
            <a:ext cx="7647480" cy="1795320"/>
            <a:chOff x="826920" y="3141720"/>
            <a:chExt cx="7647480" cy="1795320"/>
          </a:xfrm>
        </p:grpSpPr>
        <p:sp>
          <p:nvSpPr>
            <p:cNvPr id="732" name=""/>
            <p:cNvSpPr/>
            <p:nvPr/>
          </p:nvSpPr>
          <p:spPr>
            <a:xfrm>
              <a:off x="826920" y="3363840"/>
              <a:ext cx="2016360" cy="1224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28720" y="3795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.................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6200000">
              <a:off x="1225440" y="375912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.......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85360" y="4606920"/>
              <a:ext cx="6789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de-DE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</a:t>
              </a:r>
              <a:r>
                <a:rPr b="1" lang="de-DE" sz="18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939760" y="3740400"/>
              <a:ext cx="5036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35200" y="3435480"/>
              <a:ext cx="749520" cy="1224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372920" y="4678560"/>
              <a:ext cx="6789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de-DE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</a:t>
              </a:r>
              <a:r>
                <a:rPr b="1" lang="de-DE" sz="18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46840" y="3652920"/>
              <a:ext cx="677520" cy="5745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97280" y="4535640"/>
              <a:ext cx="61488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de-DE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</a:t>
              </a:r>
              <a:r>
                <a:rPr b="1" lang="de-DE" sz="18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516720" y="3651480"/>
              <a:ext cx="1873080" cy="576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859520" y="4533840"/>
              <a:ext cx="61488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de-DE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</a:t>
              </a:r>
              <a:r>
                <a:rPr b="1" lang="de-DE" sz="18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95680" y="37465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78240" y="37465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16200000">
              <a:off x="3357360" y="383076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.......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068280" y="3143520"/>
              <a:ext cx="4993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Times New Roman"/>
                </a:rPr>
                <a:t>U</a:t>
              </a:r>
              <a:r>
                <a:rPr b="1" lang="de-DE" sz="2400" spc="-1" strike="noStrike" baseline="-25000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37000" y="37958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.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373800" y="37940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...............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141400">
              <a:off x="5232960" y="366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980600" y="358164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de-DE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370840" y="3867120"/>
              <a:ext cx="384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de-DE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78160" y="3938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10160" y="3651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95480" y="3143520"/>
              <a:ext cx="4597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</a:t>
              </a:r>
              <a:r>
                <a:rPr b="1" lang="de-DE" sz="2400" spc="-1" strike="noStrike" baseline="-25000">
                  <a:solidFill>
                    <a:srgbClr val="3333cc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247080" y="3141720"/>
              <a:ext cx="61668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Times New Roman"/>
                </a:rPr>
                <a:t>V</a:t>
              </a:r>
              <a:r>
                <a:rPr b="1" lang="de-DE" sz="2400" spc="-1" strike="noStrike" baseline="-25000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de-DE" sz="2400" spc="-1" strike="noStrike" baseline="30000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6200000">
              <a:off x="7181280" y="370692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..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-42120" y="508464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bbildung von m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-Vektoren in Themenrau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6227640" y="5084640"/>
          <a:ext cx="27417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5084640"/>
                    <a:ext cx="2741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6227640" y="5516640"/>
          <a:ext cx="229716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5516640"/>
                    <a:ext cx="22971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"/>
          <p:cNvSpPr/>
          <p:nvPr/>
        </p:nvSpPr>
        <p:spPr>
          <a:xfrm>
            <a:off x="-7560" y="6027840"/>
            <a:ext cx="564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kalarprodukt-Ähnlichkeit im Themenra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580000" y="6021360"/>
            <a:ext cx="403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‘ = (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*j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0" y="0"/>
          <a:ext cx="485640" cy="2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4856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"/>
          <p:cNvSpPr/>
          <p:nvPr/>
        </p:nvSpPr>
        <p:spPr>
          <a:xfrm>
            <a:off x="1440" y="24696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0" y="0"/>
          <a:ext cx="485640" cy="2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4856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1" name=""/>
          <p:cNvSpPr/>
          <p:nvPr/>
        </p:nvSpPr>
        <p:spPr>
          <a:xfrm>
            <a:off x="1440" y="24696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0" y="0"/>
          <a:ext cx="485640" cy="24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4856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"/>
          <p:cNvSpPr/>
          <p:nvPr/>
        </p:nvSpPr>
        <p:spPr>
          <a:xfrm>
            <a:off x="1440" y="24696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0" y="0"/>
          <a:ext cx="485640" cy="24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4856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"/>
          <p:cNvSpPr/>
          <p:nvPr/>
        </p:nvSpPr>
        <p:spPr>
          <a:xfrm>
            <a:off x="1440" y="24696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0" y="0"/>
          <a:ext cx="485640" cy="247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0"/>
                    <a:ext cx="48564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"/>
          <p:cNvSpPr/>
          <p:nvPr/>
        </p:nvSpPr>
        <p:spPr>
          <a:xfrm>
            <a:off x="1440" y="24696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8A3-158A-4C6D-A847-668AAE4125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exierung und Anfrageauswer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-2520" y="987480"/>
            <a:ext cx="885204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Matrix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ntspricht einem „Themen-Index“ und ist in e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eigneten Datenstruktur zu verwal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tt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kann man auch vereinfachend V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ls Index verwen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sätzlich muß die Term-Themen-Abbildung U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gespeicher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Anfrage q (ein m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-Spaltenvektor) im Termvektorraum w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die Anfrage q‘= U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q (ein k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-Spaltenvektor) transformi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dann im Themenvektorraum (also V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 ausgewer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z.B. mittels Skalarproduktmaß  V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q‘ oder Cosinusma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 neues Dokument d (ein m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-Spaltenvektor) wird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‘ = U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  (ein k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-Spaltenvektor) transformi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als neue Spalte an den „Index“ V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ngefügt („folding-in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142-F5E9-4835-9071-1B86973E30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ispiel 1 für Latent Semantic Index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0" y="609480"/>
            <a:ext cx="9144000" cy="2974320"/>
            <a:chOff x="0" y="609480"/>
            <a:chExt cx="9144000" cy="2974320"/>
          </a:xfrm>
        </p:grpSpPr>
        <p:sp>
          <p:nvSpPr>
            <p:cNvPr id="788" name=""/>
            <p:cNvSpPr/>
            <p:nvPr/>
          </p:nvSpPr>
          <p:spPr>
            <a:xfrm>
              <a:off x="378360" y="609480"/>
              <a:ext cx="62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=5 (Bush, Schröder, Korea, Klose, Völler), n=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9" name=""/>
                <p:cNvSpPr txBox="1"/>
                <p:nvPr/>
              </p:nvSpPr>
              <p:spPr>
                <a:xfrm>
                  <a:off x="0" y="1143000"/>
                  <a:ext cx="2057400" cy="195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5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5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5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0" name=""/>
                <p:cNvSpPr txBox="1"/>
                <p:nvPr/>
              </p:nvSpPr>
              <p:spPr>
                <a:xfrm>
                  <a:off x="2324160" y="1219320"/>
                  <a:ext cx="6819840" cy="18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8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8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8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1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91" name=""/>
            <p:cNvSpPr/>
            <p:nvPr/>
          </p:nvSpPr>
          <p:spPr>
            <a:xfrm>
              <a:off x="2973960" y="3124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096320" y="2819520"/>
              <a:ext cx="50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311720" y="2819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285480" y="4648320"/>
            <a:ext cx="799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es Dokument d8 = (1 1 0 0 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r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8‘ = 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8 = (1.16  0.00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formiert und an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gefü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84040" y="3733920"/>
            <a:ext cx="81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frage q = (0 0 1 0 0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r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‘ = U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q = (0.58  0.00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transformiert und gegen V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valu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D5B-727B-4BF9-9BBA-DA49E2AD87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ispiel 2 für Latent Semantic Index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31720" y="914400"/>
            <a:ext cx="21754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=6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: bak(e,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2: recip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3: b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4: c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5: pastr(y,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6: 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520440" y="866880"/>
            <a:ext cx="53866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=5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1: How to bake bread without rec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2: The classic art of Viennese Pa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3: Numerical recipes: the ar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ientific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4: Breads, pastries, pies and c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uantity baking rec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5: Pastry: a book of best French rec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990720" y="3886200"/>
                <a:ext cx="554976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74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82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74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82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71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74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82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82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</m:t>
                            </m:r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82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7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AB6F-207A-4657-AB12-E7476119B11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ispiel 2 für Latent Semantic Indexing (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228600" y="609480"/>
            <a:ext cx="8913600" cy="5740560"/>
            <a:chOff x="228600" y="609480"/>
            <a:chExt cx="8913600" cy="5740560"/>
          </a:xfrm>
        </p:grpSpPr>
        <mc:AlternateContent>
          <mc:Choice xmlns:a14="http://schemas.microsoft.com/office/drawing/2010/main" Requires="a14">
            <p:sp>
              <p:nvSpPr>
                <p:cNvPr id="802" name=""/>
                <p:cNvSpPr txBox="1"/>
                <p:nvPr/>
              </p:nvSpPr>
              <p:spPr>
                <a:xfrm>
                  <a:off x="228600" y="1523880"/>
                  <a:ext cx="4827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828800" y="3124080"/>
                  <a:ext cx="3594240" cy="147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950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0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0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0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0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58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0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0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0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0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403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0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2666880" y="4876920"/>
                  <a:ext cx="5232600" cy="14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366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67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412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909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288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717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549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568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46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15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88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98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247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711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712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5" name=""/>
                <p:cNvSpPr txBox="1"/>
                <p:nvPr/>
              </p:nvSpPr>
              <p:spPr>
                <a:xfrm>
                  <a:off x="990720" y="609480"/>
                  <a:ext cx="3949560" cy="223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670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67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308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47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479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981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249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816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670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67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308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47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82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27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774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394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198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423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838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58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06" name=""/>
            <p:cNvSpPr/>
            <p:nvPr/>
          </p:nvSpPr>
          <p:spPr>
            <a:xfrm>
              <a:off x="8741520" y="1523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775720" y="3581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625240" y="5410080"/>
              <a:ext cx="50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5F80-B536-4C47-A350-32AE37D496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ispiel 2 für Latent Semantic Indexing (3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654120" y="914400"/>
            <a:ext cx="7867440" cy="2235240"/>
            <a:chOff x="654120" y="914400"/>
            <a:chExt cx="7867440" cy="2235240"/>
          </a:xfrm>
        </p:grpSpPr>
        <mc:AlternateContent>
          <mc:Choice xmlns:a14="http://schemas.microsoft.com/office/drawing/2010/main" Requires="a14">
            <p:sp>
              <p:nvSpPr>
                <p:cNvPr id="811" name=""/>
                <p:cNvSpPr txBox="1"/>
                <p:nvPr/>
              </p:nvSpPr>
              <p:spPr>
                <a:xfrm>
                  <a:off x="654120" y="1879560"/>
                  <a:ext cx="6094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2" name=""/>
                <p:cNvSpPr txBox="1"/>
                <p:nvPr/>
              </p:nvSpPr>
              <p:spPr>
                <a:xfrm>
                  <a:off x="1447920" y="914400"/>
                  <a:ext cx="5041800" cy="223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971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30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32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867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69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03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94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933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858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91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971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30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32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867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69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01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740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22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20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55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26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866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94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402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4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3" name=""/>
                <p:cNvSpPr txBox="1"/>
                <p:nvPr/>
              </p:nvSpPr>
              <p:spPr>
                <a:xfrm>
                  <a:off x="6629400" y="1828800"/>
                  <a:ext cx="189216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×</m:t>
                      </m:r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×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1EA1-BF95-4C87-95BF-F53BF4112A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ispiel 2 für Latent Semantic Indexing (4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7520" y="685800"/>
            <a:ext cx="315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frage q: baking b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 = ( 1 0 1 0 0 0 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3040" y="1600200"/>
            <a:ext cx="56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nsformation in den Themenraum mit k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‘ = U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q = (0.5340  -0.5134  1.0616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49360" y="2514600"/>
            <a:ext cx="8674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kalarprodukt-Ähnlichkeit im Themenraum mit k=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 (q, d1) = V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*1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q‘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0.86        sim (q, d2) = V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*2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q‘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-0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 (q, d3) = Vk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*3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q‘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-0.24       u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8880" y="3962520"/>
            <a:ext cx="587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olding-in eines neuen Dokuments d6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gorithmic recipes for the computation of p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6 = ( 0  0.7071  0  0  0  0.7071 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53040" y="5181480"/>
            <a:ext cx="56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nsformation in den Themenraum mit k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6‘ = U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6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 0.5  -0.28  -0.15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65280" y="6035760"/>
            <a:ext cx="46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6‘ als neue Spalte an Vk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nhä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6452-3EF7-409D-B789-1D7F7497852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hrsprachiges Retrieval mit LS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9640" y="609480"/>
            <a:ext cx="829728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nstruiere LSI-Modell (U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 anhand 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iningsdokumenten, die mehrsprachig vorlie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rachte alle Sprachversionen eines Dokuments als 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ziges Dokument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xtrahiere zur Indexierung alle Terme oder Wö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abhängig von der Spra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dexiere weitere Dokumente durch „folding-in“, 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bbildung in den Themen-Vektorraum und Anhängen an V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fragen können dann in beliebiger Sprache gestellt werden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efern Antworten in allen Sprach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10680" y="4165560"/>
            <a:ext cx="8840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1: How to bake bread without recip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e man ohne Rezept Brot backen ka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2: Pastry: a book of best French reci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bäck: eine Sammlung der besten französischen Rezep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rme sind dann z.B. bake, bread, recipe, backen, Brot, Rezept, u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kumente und Terme werden auf einen kompakten Themenr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bgebil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E1E-F2B7-4F3A-9DF2-6383C141D09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spiel: SQL in Oracle/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1000" y="83808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spielanfr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04400" y="838080"/>
            <a:ext cx="6071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elect URL, Content, Year From Do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here Year &gt; 1995 And Category Like ‚%drama%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nd Contains (Content, ‚BT(king)‘, 1) &gt;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nd Contains (Content, ‚SYN(traitor)|NT(traitor)‘, 2)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rder By Score(1)*Score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3920" y="2514600"/>
            <a:ext cx="850464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itere Operatoren (anhand von Beispiele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~, &amp;, |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ot, And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EAR (king, David,10)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öchstens 10 Wörter auseina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ing&amp;David WITHIN Sentenc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 selben 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!dog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ähnliche Aussprache (z.B. doc, d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$sing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leicher Wortstamm (z.B. singer, sings, sa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?apple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ähnliche Schreibweise(z.B. applet, app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TP(computer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arrower term partative (z.B. hard dr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TG(rodent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arrower term generic (z.B. r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TI(fairytale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arrower term instance (z.B. Cinderell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BOUT(miracles by Jesus)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ematische Suc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verwendet intern selbst andere Operator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506-888D-453E-A8D7-CF0A6EA56F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Zusammenfassung zu LS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43000" y="838080"/>
            <a:ext cx="891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legantes, mathematisch wohlfundiertes 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tomatisches Lernen“ von Termkorrel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inkl. morphologischer Wortvarianten, Mehrsprachigke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mpliziter Thesaurus (durch Korrelation von Synony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mplizite Diskriminierung der verschiedenen Bedeutu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n Polysemen (durch verschiedene Korrelati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te Retrievalgüte auf „geschlossenen“ Korp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z.B. TREC-Benchmark, Finanznachrichten, Patentkollektionen u.ä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empirisch günstigstem k in der Größenordnung 100-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wierige Wahl von günstigem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chen- und Speicheraufwand für sehr große (z.T. aber dü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etzte) Matri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ine überzeugenden Resultate für Web-Suchmasch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2DD-1A1A-4BAC-AD18-479F7414F07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meln, Analyse und Indexieru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n Web-Dokum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3124080" y="16905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685800"/>
            <a:ext cx="9144000" cy="6174000"/>
            <a:chOff x="0" y="685800"/>
            <a:chExt cx="9144000" cy="6174000"/>
          </a:xfrm>
        </p:grpSpPr>
        <p:sp>
          <p:nvSpPr>
            <p:cNvPr id="56" name="Documents"/>
            <p:cNvSpPr/>
            <p:nvPr/>
          </p:nvSpPr>
          <p:spPr>
            <a:xfrm>
              <a:off x="0" y="2590920"/>
              <a:ext cx="2209680" cy="243828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680" y="502920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kum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80" y="2971800"/>
              <a:ext cx="195156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Web Surfing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In Saarbrü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Internet-Caf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mit oder oh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Web Suit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2590200" y="1600200"/>
              <a:ext cx="2253600" cy="2719080"/>
              <a:chOff x="2590200" y="1600200"/>
              <a:chExt cx="2253600" cy="2719080"/>
            </a:xfrm>
          </p:grpSpPr>
          <p:sp>
            <p:nvSpPr>
              <p:cNvPr id="60" name=""/>
              <p:cNvSpPr/>
              <p:nvPr/>
            </p:nvSpPr>
            <p:spPr>
              <a:xfrm>
                <a:off x="3276360" y="1600200"/>
                <a:ext cx="156744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rf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aarbrück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af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2590200" y="2209680"/>
                <a:ext cx="1469880" cy="2109600"/>
                <a:chOff x="2590200" y="2209680"/>
                <a:chExt cx="1469880" cy="210960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2743200" y="2209680"/>
                  <a:ext cx="533520" cy="381240"/>
                </a:xfrm>
                <a:prstGeom prst="rightArrow">
                  <a:avLst>
                    <a:gd name="adj1" fmla="val 50000"/>
                    <a:gd name="adj2" fmla="val 3498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590200" y="3457440"/>
                  <a:ext cx="1469880" cy="86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xtrak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elevant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Wört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971800" y="251460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" name=""/>
            <p:cNvGrpSpPr/>
            <p:nvPr/>
          </p:nvGrpSpPr>
          <p:grpSpPr>
            <a:xfrm>
              <a:off x="4113720" y="1600200"/>
              <a:ext cx="2816280" cy="3237840"/>
              <a:chOff x="4113720" y="1600200"/>
              <a:chExt cx="2816280" cy="3237840"/>
            </a:xfrm>
          </p:grpSpPr>
          <p:sp>
            <p:nvSpPr>
              <p:cNvPr id="66" name=""/>
              <p:cNvSpPr/>
              <p:nvPr/>
            </p:nvSpPr>
            <p:spPr>
              <a:xfrm>
                <a:off x="5333400" y="1600200"/>
                <a:ext cx="159660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r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aarbrück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af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4113720" y="2211840"/>
                <a:ext cx="1614960" cy="2626200"/>
                <a:chOff x="4113720" y="2211840"/>
                <a:chExt cx="1614960" cy="26262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648320" y="2211840"/>
                  <a:ext cx="533160" cy="382680"/>
                </a:xfrm>
                <a:prstGeom prst="rightArrow">
                  <a:avLst>
                    <a:gd name="adj1" fmla="val 50000"/>
                    <a:gd name="adj2" fmla="val 34831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113720" y="3464280"/>
                  <a:ext cx="161496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inguist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Methoden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eduk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uf Stamm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orme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V="1">
                  <a:off x="4876920" y="2517480"/>
                  <a:ext cx="0" cy="91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" name=""/>
            <p:cNvGrpSpPr/>
            <p:nvPr/>
          </p:nvGrpSpPr>
          <p:grpSpPr>
            <a:xfrm>
              <a:off x="5562720" y="1600200"/>
              <a:ext cx="3200760" cy="3231000"/>
              <a:chOff x="5562720" y="1600200"/>
              <a:chExt cx="3200760" cy="3231000"/>
            </a:xfrm>
          </p:grpSpPr>
          <p:sp>
            <p:nvSpPr>
              <p:cNvPr id="72" name=""/>
              <p:cNvSpPr/>
              <p:nvPr/>
            </p:nvSpPr>
            <p:spPr>
              <a:xfrm>
                <a:off x="7467120" y="1600200"/>
                <a:ext cx="1296360" cy="25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Times New Roman"/>
                  </a:rPr>
                  <a:t>Sur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Times New Roman"/>
                  </a:rPr>
                  <a:t>Wellenrit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Times New Roman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Times New Roman"/>
                  </a:rPr>
                  <a:t>WW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Times New Roman"/>
                  </a:rPr>
                  <a:t>eServi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Times New Roman"/>
                  </a:rPr>
                  <a:t>Caf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Times New Roman"/>
                  </a:rPr>
                  <a:t>Bistr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5562720" y="2209680"/>
                <a:ext cx="1953000" cy="2621520"/>
                <a:chOff x="5562720" y="2209680"/>
                <a:chExt cx="1953000" cy="26215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781680" y="2209680"/>
                  <a:ext cx="533520" cy="381240"/>
                </a:xfrm>
                <a:prstGeom prst="rightArrow">
                  <a:avLst>
                    <a:gd name="adj1" fmla="val 50000"/>
                    <a:gd name="adj2" fmla="val 3498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562720" y="3457440"/>
                  <a:ext cx="1953000" cy="137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Times New Roman"/>
                    </a:rPr>
                    <a:t>Bildung v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Times New Roman"/>
                    </a:rPr>
                    <a:t>Featur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Times New Roman"/>
                    </a:rPr>
                    <a:t>(Deskriptoren,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Times New Roman"/>
                    </a:rPr>
                    <a:t>Terme) mi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Times New Roman"/>
                    </a:rPr>
                    <a:t>Gewichte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6629400" y="2514600"/>
                  <a:ext cx="30492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" name=""/>
            <p:cNvGrpSpPr/>
            <p:nvPr/>
          </p:nvGrpSpPr>
          <p:grpSpPr>
            <a:xfrm>
              <a:off x="6095880" y="4114800"/>
              <a:ext cx="3048120" cy="2745000"/>
              <a:chOff x="6095880" y="4114800"/>
              <a:chExt cx="3048120" cy="274500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6095880" y="4890960"/>
                <a:ext cx="3048120" cy="1968840"/>
                <a:chOff x="6095880" y="4890960"/>
                <a:chExt cx="3048120" cy="19688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095880" y="4890960"/>
                  <a:ext cx="3048120" cy="923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095880" y="5814720"/>
                  <a:ext cx="3048120" cy="4615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794640" y="5088600"/>
                  <a:ext cx="16041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de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B*-Baum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170400" y="5946480"/>
                  <a:ext cx="802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istr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286040" y="5946480"/>
                  <a:ext cx="66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af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913440" y="6078240"/>
                  <a:ext cx="0" cy="32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062120" y="6078240"/>
                  <a:ext cx="0" cy="32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210800" y="6078240"/>
                  <a:ext cx="0" cy="32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880040" y="6078240"/>
                  <a:ext cx="0" cy="32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028720" y="6078240"/>
                  <a:ext cx="0" cy="32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177040" y="6078240"/>
                  <a:ext cx="0" cy="32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326080" y="6078240"/>
                  <a:ext cx="0" cy="32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402400" y="5748480"/>
                  <a:ext cx="523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544080" y="6400080"/>
                  <a:ext cx="907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URL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7442280" y="4114800"/>
                <a:ext cx="1446840" cy="685800"/>
                <a:chOff x="7442280" y="4114800"/>
                <a:chExt cx="1446840" cy="6858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7442280" y="4191120"/>
                  <a:ext cx="380880" cy="609480"/>
                </a:xfrm>
                <a:prstGeom prst="downArrow">
                  <a:avLst>
                    <a:gd name="adj1" fmla="val 50000"/>
                    <a:gd name="adj2" fmla="val 40005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877880" y="4114800"/>
                  <a:ext cx="1011240" cy="67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Times New Roman"/>
                    </a:rPr>
                    <a:t>Index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400" spc="-1" strike="noStrike">
                      <a:solidFill>
                        <a:srgbClr val="000000"/>
                      </a:solidFill>
                      <a:latin typeface="Times New Roman"/>
                    </a:rPr>
                    <a:t>aufba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746840" y="434340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" name=""/>
            <p:cNvGrpSpPr/>
            <p:nvPr/>
          </p:nvGrpSpPr>
          <p:grpSpPr>
            <a:xfrm>
              <a:off x="3429000" y="4738680"/>
              <a:ext cx="2666880" cy="1752480"/>
              <a:chOff x="3429000" y="4738680"/>
              <a:chExt cx="2666880" cy="175248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3429000" y="4815000"/>
                <a:ext cx="1622520" cy="1676160"/>
                <a:chOff x="3429000" y="4815000"/>
                <a:chExt cx="1622520" cy="16761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429000" y="4815000"/>
                  <a:ext cx="1600200" cy="167616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429000" y="4890960"/>
                  <a:ext cx="1622520" cy="67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hesauru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Ontologie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538080" y="5661000"/>
                  <a:ext cx="145008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Synonyme,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Hypernyme,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Times New Roman"/>
                    </a:rPr>
                    <a:t>Hyponym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 flipV="1">
                <a:off x="5029200" y="4738680"/>
                <a:ext cx="106668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1960" y="685800"/>
              <a:ext cx="3254760" cy="1309680"/>
              <a:chOff x="21960" y="685800"/>
              <a:chExt cx="3254760" cy="1309680"/>
            </a:xfrm>
          </p:grpSpPr>
          <p:sp>
            <p:nvSpPr>
              <p:cNvPr id="104" name=""/>
              <p:cNvSpPr/>
              <p:nvPr/>
            </p:nvSpPr>
            <p:spPr>
              <a:xfrm flipH="1">
                <a:off x="247680" y="685800"/>
                <a:ext cx="3029040" cy="1309680"/>
              </a:xfrm>
              <a:prstGeom prst="cloudCallout">
                <a:avLst>
                  <a:gd name="adj1" fmla="val -2805"/>
                  <a:gd name="adj2" fmla="val 643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1065960" y="685800"/>
                <a:ext cx="90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W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21960" y="920880"/>
                <a:ext cx="722880" cy="951120"/>
                <a:chOff x="21960" y="920880"/>
                <a:chExt cx="722880" cy="95112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76320" y="928440"/>
                  <a:ext cx="631440" cy="595080"/>
                  <a:chOff x="76320" y="928440"/>
                  <a:chExt cx="631440" cy="595080"/>
                </a:xfrm>
              </p:grpSpPr>
              <p:grpSp>
                <p:nvGrpSpPr>
                  <p:cNvPr id="108" name=""/>
                  <p:cNvGrpSpPr/>
                  <p:nvPr/>
                </p:nvGrpSpPr>
                <p:grpSpPr>
                  <a:xfrm>
                    <a:off x="76320" y="928440"/>
                    <a:ext cx="631440" cy="595080"/>
                    <a:chOff x="76320" y="928440"/>
                    <a:chExt cx="631440" cy="595080"/>
                  </a:xfrm>
                </p:grpSpPr>
                <p:sp>
                  <p:nvSpPr>
                    <p:cNvPr id="109" name=""/>
                    <p:cNvSpPr/>
                    <p:nvPr/>
                  </p:nvSpPr>
                  <p:spPr>
                    <a:xfrm flipH="1" rot="21103800">
                      <a:off x="165240" y="964440"/>
                      <a:ext cx="523440" cy="29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4" h="685">
                          <a:moveTo>
                            <a:pt x="21" y="685"/>
                          </a:moveTo>
                          <a:lnTo>
                            <a:pt x="6" y="604"/>
                          </a:lnTo>
                          <a:lnTo>
                            <a:pt x="0" y="526"/>
                          </a:lnTo>
                          <a:lnTo>
                            <a:pt x="3" y="472"/>
                          </a:lnTo>
                          <a:lnTo>
                            <a:pt x="12" y="423"/>
                          </a:lnTo>
                          <a:lnTo>
                            <a:pt x="27" y="369"/>
                          </a:lnTo>
                          <a:lnTo>
                            <a:pt x="51" y="315"/>
                          </a:lnTo>
                          <a:lnTo>
                            <a:pt x="81" y="258"/>
                          </a:lnTo>
                          <a:lnTo>
                            <a:pt x="111" y="213"/>
                          </a:lnTo>
                          <a:lnTo>
                            <a:pt x="147" y="168"/>
                          </a:lnTo>
                          <a:lnTo>
                            <a:pt x="189" y="129"/>
                          </a:lnTo>
                          <a:lnTo>
                            <a:pt x="231" y="96"/>
                          </a:lnTo>
                          <a:lnTo>
                            <a:pt x="276" y="69"/>
                          </a:lnTo>
                          <a:lnTo>
                            <a:pt x="331" y="45"/>
                          </a:lnTo>
                          <a:lnTo>
                            <a:pt x="394" y="24"/>
                          </a:lnTo>
                          <a:lnTo>
                            <a:pt x="448" y="9"/>
                          </a:lnTo>
                          <a:lnTo>
                            <a:pt x="514" y="0"/>
                          </a:lnTo>
                          <a:lnTo>
                            <a:pt x="598" y="0"/>
                          </a:lnTo>
                          <a:lnTo>
                            <a:pt x="661" y="12"/>
                          </a:lnTo>
                          <a:lnTo>
                            <a:pt x="737" y="30"/>
                          </a:lnTo>
                          <a:lnTo>
                            <a:pt x="812" y="63"/>
                          </a:lnTo>
                          <a:lnTo>
                            <a:pt x="878" y="102"/>
                          </a:lnTo>
                          <a:lnTo>
                            <a:pt x="923" y="141"/>
                          </a:lnTo>
                          <a:lnTo>
                            <a:pt x="968" y="186"/>
                          </a:lnTo>
                          <a:lnTo>
                            <a:pt x="1004" y="231"/>
                          </a:lnTo>
                          <a:lnTo>
                            <a:pt x="908" y="159"/>
                          </a:lnTo>
                          <a:lnTo>
                            <a:pt x="857" y="129"/>
                          </a:lnTo>
                          <a:lnTo>
                            <a:pt x="803" y="108"/>
                          </a:lnTo>
                          <a:lnTo>
                            <a:pt x="734" y="87"/>
                          </a:lnTo>
                          <a:lnTo>
                            <a:pt x="667" y="78"/>
                          </a:lnTo>
                          <a:lnTo>
                            <a:pt x="595" y="75"/>
                          </a:lnTo>
                          <a:lnTo>
                            <a:pt x="541" y="78"/>
                          </a:lnTo>
                          <a:lnTo>
                            <a:pt x="484" y="87"/>
                          </a:lnTo>
                          <a:lnTo>
                            <a:pt x="427" y="102"/>
                          </a:lnTo>
                          <a:lnTo>
                            <a:pt x="373" y="120"/>
                          </a:lnTo>
                          <a:lnTo>
                            <a:pt x="313" y="150"/>
                          </a:lnTo>
                          <a:lnTo>
                            <a:pt x="267" y="177"/>
                          </a:lnTo>
                          <a:lnTo>
                            <a:pt x="228" y="210"/>
                          </a:lnTo>
                          <a:lnTo>
                            <a:pt x="183" y="246"/>
                          </a:lnTo>
                          <a:lnTo>
                            <a:pt x="147" y="285"/>
                          </a:lnTo>
                          <a:lnTo>
                            <a:pt x="111" y="339"/>
                          </a:lnTo>
                          <a:lnTo>
                            <a:pt x="78" y="396"/>
                          </a:lnTo>
                          <a:lnTo>
                            <a:pt x="57" y="450"/>
                          </a:lnTo>
                          <a:lnTo>
                            <a:pt x="39" y="514"/>
                          </a:lnTo>
                          <a:lnTo>
                            <a:pt x="27" y="592"/>
                          </a:lnTo>
                          <a:lnTo>
                            <a:pt x="21" y="685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 flipH="1" rot="21103800">
                      <a:off x="99360" y="1119600"/>
                      <a:ext cx="57780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7" h="842">
                          <a:moveTo>
                            <a:pt x="0" y="511"/>
                          </a:moveTo>
                          <a:lnTo>
                            <a:pt x="63" y="583"/>
                          </a:lnTo>
                          <a:lnTo>
                            <a:pt x="132" y="647"/>
                          </a:lnTo>
                          <a:lnTo>
                            <a:pt x="195" y="683"/>
                          </a:lnTo>
                          <a:lnTo>
                            <a:pt x="286" y="722"/>
                          </a:lnTo>
                          <a:lnTo>
                            <a:pt x="358" y="743"/>
                          </a:lnTo>
                          <a:lnTo>
                            <a:pt x="424" y="752"/>
                          </a:lnTo>
                          <a:lnTo>
                            <a:pt x="502" y="752"/>
                          </a:lnTo>
                          <a:lnTo>
                            <a:pt x="559" y="746"/>
                          </a:lnTo>
                          <a:lnTo>
                            <a:pt x="629" y="734"/>
                          </a:lnTo>
                          <a:lnTo>
                            <a:pt x="698" y="713"/>
                          </a:lnTo>
                          <a:lnTo>
                            <a:pt x="755" y="683"/>
                          </a:lnTo>
                          <a:lnTo>
                            <a:pt x="809" y="650"/>
                          </a:lnTo>
                          <a:lnTo>
                            <a:pt x="857" y="616"/>
                          </a:lnTo>
                          <a:lnTo>
                            <a:pt x="905" y="568"/>
                          </a:lnTo>
                          <a:lnTo>
                            <a:pt x="953" y="514"/>
                          </a:lnTo>
                          <a:lnTo>
                            <a:pt x="990" y="463"/>
                          </a:lnTo>
                          <a:lnTo>
                            <a:pt x="1011" y="412"/>
                          </a:lnTo>
                          <a:lnTo>
                            <a:pt x="1038" y="331"/>
                          </a:lnTo>
                          <a:lnTo>
                            <a:pt x="1056" y="247"/>
                          </a:lnTo>
                          <a:lnTo>
                            <a:pt x="1059" y="172"/>
                          </a:lnTo>
                          <a:lnTo>
                            <a:pt x="1047" y="90"/>
                          </a:lnTo>
                          <a:lnTo>
                            <a:pt x="1020" y="0"/>
                          </a:lnTo>
                          <a:lnTo>
                            <a:pt x="1047" y="48"/>
                          </a:lnTo>
                          <a:lnTo>
                            <a:pt x="1077" y="117"/>
                          </a:lnTo>
                          <a:lnTo>
                            <a:pt x="1092" y="181"/>
                          </a:lnTo>
                          <a:lnTo>
                            <a:pt x="1107" y="241"/>
                          </a:lnTo>
                          <a:lnTo>
                            <a:pt x="1104" y="292"/>
                          </a:lnTo>
                          <a:lnTo>
                            <a:pt x="1101" y="361"/>
                          </a:lnTo>
                          <a:lnTo>
                            <a:pt x="1065" y="493"/>
                          </a:lnTo>
                          <a:lnTo>
                            <a:pt x="1029" y="565"/>
                          </a:lnTo>
                          <a:lnTo>
                            <a:pt x="984" y="629"/>
                          </a:lnTo>
                          <a:lnTo>
                            <a:pt x="935" y="683"/>
                          </a:lnTo>
                          <a:lnTo>
                            <a:pt x="887" y="722"/>
                          </a:lnTo>
                          <a:lnTo>
                            <a:pt x="821" y="767"/>
                          </a:lnTo>
                          <a:lnTo>
                            <a:pt x="755" y="797"/>
                          </a:lnTo>
                          <a:lnTo>
                            <a:pt x="692" y="818"/>
                          </a:lnTo>
                          <a:lnTo>
                            <a:pt x="611" y="839"/>
                          </a:lnTo>
                          <a:lnTo>
                            <a:pt x="550" y="842"/>
                          </a:lnTo>
                          <a:lnTo>
                            <a:pt x="484" y="842"/>
                          </a:lnTo>
                          <a:lnTo>
                            <a:pt x="418" y="830"/>
                          </a:lnTo>
                          <a:lnTo>
                            <a:pt x="346" y="815"/>
                          </a:lnTo>
                          <a:lnTo>
                            <a:pt x="298" y="797"/>
                          </a:lnTo>
                          <a:lnTo>
                            <a:pt x="234" y="764"/>
                          </a:lnTo>
                          <a:lnTo>
                            <a:pt x="180" y="734"/>
                          </a:lnTo>
                          <a:lnTo>
                            <a:pt x="129" y="692"/>
                          </a:lnTo>
                          <a:lnTo>
                            <a:pt x="75" y="635"/>
                          </a:lnTo>
                          <a:lnTo>
                            <a:pt x="24" y="562"/>
                          </a:lnTo>
                          <a:lnTo>
                            <a:pt x="0" y="51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1" name=""/>
                  <p:cNvGrpSpPr/>
                  <p:nvPr/>
                </p:nvGrpSpPr>
                <p:grpSpPr>
                  <a:xfrm>
                    <a:off x="77040" y="975600"/>
                    <a:ext cx="624600" cy="465480"/>
                    <a:chOff x="77040" y="975600"/>
                    <a:chExt cx="624600" cy="465480"/>
                  </a:xfrm>
                </p:grpSpPr>
                <p:sp>
                  <p:nvSpPr>
                    <p:cNvPr id="112" name=""/>
                    <p:cNvSpPr/>
                    <p:nvPr/>
                  </p:nvSpPr>
                  <p:spPr>
                    <a:xfrm flipH="1" rot="21103800">
                      <a:off x="540000" y="1309680"/>
                      <a:ext cx="150480" cy="12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7" h="279">
                          <a:moveTo>
                            <a:pt x="0" y="0"/>
                          </a:moveTo>
                          <a:lnTo>
                            <a:pt x="30" y="56"/>
                          </a:lnTo>
                          <a:lnTo>
                            <a:pt x="59" y="99"/>
                          </a:lnTo>
                          <a:lnTo>
                            <a:pt x="90" y="139"/>
                          </a:lnTo>
                          <a:lnTo>
                            <a:pt x="138" y="186"/>
                          </a:lnTo>
                          <a:lnTo>
                            <a:pt x="174" y="216"/>
                          </a:lnTo>
                          <a:lnTo>
                            <a:pt x="220" y="245"/>
                          </a:lnTo>
                          <a:lnTo>
                            <a:pt x="287" y="279"/>
                          </a:lnTo>
                          <a:lnTo>
                            <a:pt x="212" y="177"/>
                          </a:lnTo>
                          <a:lnTo>
                            <a:pt x="170" y="153"/>
                          </a:lnTo>
                          <a:lnTo>
                            <a:pt x="140" y="132"/>
                          </a:lnTo>
                          <a:lnTo>
                            <a:pt x="96" y="101"/>
                          </a:lnTo>
                          <a:lnTo>
                            <a:pt x="62" y="69"/>
                          </a:lnTo>
                          <a:lnTo>
                            <a:pt x="35" y="4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 flipH="1" rot="21103800">
                      <a:off x="93600" y="1154880"/>
                      <a:ext cx="53280" cy="23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546">
                          <a:moveTo>
                            <a:pt x="19" y="0"/>
                          </a:moveTo>
                          <a:lnTo>
                            <a:pt x="39" y="37"/>
                          </a:lnTo>
                          <a:lnTo>
                            <a:pt x="52" y="69"/>
                          </a:lnTo>
                          <a:lnTo>
                            <a:pt x="66" y="102"/>
                          </a:lnTo>
                          <a:lnTo>
                            <a:pt x="76" y="134"/>
                          </a:lnTo>
                          <a:lnTo>
                            <a:pt x="84" y="164"/>
                          </a:lnTo>
                          <a:lnTo>
                            <a:pt x="99" y="217"/>
                          </a:lnTo>
                          <a:lnTo>
                            <a:pt x="103" y="269"/>
                          </a:lnTo>
                          <a:lnTo>
                            <a:pt x="100" y="349"/>
                          </a:lnTo>
                          <a:lnTo>
                            <a:pt x="93" y="403"/>
                          </a:lnTo>
                          <a:lnTo>
                            <a:pt x="82" y="447"/>
                          </a:lnTo>
                          <a:lnTo>
                            <a:pt x="65" y="493"/>
                          </a:lnTo>
                          <a:lnTo>
                            <a:pt x="42" y="546"/>
                          </a:lnTo>
                          <a:lnTo>
                            <a:pt x="0" y="443"/>
                          </a:lnTo>
                          <a:lnTo>
                            <a:pt x="19" y="398"/>
                          </a:lnTo>
                          <a:lnTo>
                            <a:pt x="28" y="374"/>
                          </a:lnTo>
                          <a:lnTo>
                            <a:pt x="39" y="343"/>
                          </a:lnTo>
                          <a:lnTo>
                            <a:pt x="46" y="311"/>
                          </a:lnTo>
                          <a:lnTo>
                            <a:pt x="52" y="262"/>
                          </a:lnTo>
                          <a:lnTo>
                            <a:pt x="55" y="221"/>
                          </a:lnTo>
                          <a:lnTo>
                            <a:pt x="55" y="160"/>
                          </a:lnTo>
                          <a:lnTo>
                            <a:pt x="46" y="105"/>
                          </a:lnTo>
                          <a:lnTo>
                            <a:pt x="36" y="60"/>
                          </a:lnTo>
                          <a:lnTo>
                            <a:pt x="30" y="36"/>
                          </a:lnTo>
                          <a:lnTo>
                            <a:pt x="19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 flipH="1" rot="21103800">
                      <a:off x="181440" y="990360"/>
                      <a:ext cx="212760" cy="7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9" h="165">
                          <a:moveTo>
                            <a:pt x="0" y="0"/>
                          </a:moveTo>
                          <a:lnTo>
                            <a:pt x="31" y="60"/>
                          </a:lnTo>
                          <a:lnTo>
                            <a:pt x="79" y="57"/>
                          </a:lnTo>
                          <a:lnTo>
                            <a:pt x="123" y="60"/>
                          </a:lnTo>
                          <a:lnTo>
                            <a:pt x="165" y="66"/>
                          </a:lnTo>
                          <a:lnTo>
                            <a:pt x="203" y="73"/>
                          </a:lnTo>
                          <a:lnTo>
                            <a:pt x="241" y="83"/>
                          </a:lnTo>
                          <a:lnTo>
                            <a:pt x="267" y="91"/>
                          </a:lnTo>
                          <a:lnTo>
                            <a:pt x="301" y="105"/>
                          </a:lnTo>
                          <a:lnTo>
                            <a:pt x="340" y="124"/>
                          </a:lnTo>
                          <a:lnTo>
                            <a:pt x="409" y="165"/>
                          </a:lnTo>
                          <a:lnTo>
                            <a:pt x="369" y="123"/>
                          </a:lnTo>
                          <a:lnTo>
                            <a:pt x="341" y="102"/>
                          </a:lnTo>
                          <a:lnTo>
                            <a:pt x="304" y="78"/>
                          </a:lnTo>
                          <a:lnTo>
                            <a:pt x="281" y="64"/>
                          </a:lnTo>
                          <a:lnTo>
                            <a:pt x="230" y="40"/>
                          </a:lnTo>
                          <a:lnTo>
                            <a:pt x="197" y="28"/>
                          </a:lnTo>
                          <a:lnTo>
                            <a:pt x="170" y="19"/>
                          </a:lnTo>
                          <a:lnTo>
                            <a:pt x="145" y="13"/>
                          </a:lnTo>
                          <a:lnTo>
                            <a:pt x="105" y="6"/>
                          </a:lnTo>
                          <a:lnTo>
                            <a:pt x="64" y="1"/>
                          </a:lnTo>
                          <a:lnTo>
                            <a:pt x="18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 flipH="1" rot="21103800">
                      <a:off x="621720" y="1038960"/>
                      <a:ext cx="67680" cy="16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" h="387">
                          <a:moveTo>
                            <a:pt x="0" y="297"/>
                          </a:moveTo>
                          <a:lnTo>
                            <a:pt x="3" y="267"/>
                          </a:lnTo>
                          <a:lnTo>
                            <a:pt x="5" y="234"/>
                          </a:lnTo>
                          <a:lnTo>
                            <a:pt x="14" y="181"/>
                          </a:lnTo>
                          <a:lnTo>
                            <a:pt x="24" y="139"/>
                          </a:lnTo>
                          <a:lnTo>
                            <a:pt x="38" y="101"/>
                          </a:lnTo>
                          <a:lnTo>
                            <a:pt x="56" y="62"/>
                          </a:lnTo>
                          <a:lnTo>
                            <a:pt x="72" y="32"/>
                          </a:lnTo>
                          <a:lnTo>
                            <a:pt x="92" y="0"/>
                          </a:lnTo>
                          <a:lnTo>
                            <a:pt x="130" y="50"/>
                          </a:lnTo>
                          <a:lnTo>
                            <a:pt x="108" y="80"/>
                          </a:lnTo>
                          <a:lnTo>
                            <a:pt x="92" y="107"/>
                          </a:lnTo>
                          <a:lnTo>
                            <a:pt x="79" y="132"/>
                          </a:lnTo>
                          <a:lnTo>
                            <a:pt x="60" y="167"/>
                          </a:lnTo>
                          <a:lnTo>
                            <a:pt x="48" y="198"/>
                          </a:lnTo>
                          <a:lnTo>
                            <a:pt x="41" y="228"/>
                          </a:lnTo>
                          <a:lnTo>
                            <a:pt x="32" y="258"/>
                          </a:lnTo>
                          <a:lnTo>
                            <a:pt x="26" y="291"/>
                          </a:lnTo>
                          <a:lnTo>
                            <a:pt x="21" y="331"/>
                          </a:lnTo>
                          <a:lnTo>
                            <a:pt x="17" y="371"/>
                          </a:lnTo>
                          <a:lnTo>
                            <a:pt x="10" y="387"/>
                          </a:lnTo>
                          <a:lnTo>
                            <a:pt x="0" y="29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8480" y="920880"/>
                  <a:ext cx="666360" cy="562320"/>
                  <a:chOff x="78480" y="920880"/>
                  <a:chExt cx="666360" cy="56232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flipH="1" rot="21103800">
                    <a:off x="117360" y="968760"/>
                    <a:ext cx="589680" cy="468720"/>
                  </a:xfrm>
                  <a:prstGeom prst="ellipse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31680">
                    <a:solidFill>
                      <a:srgbClr val="9f9f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flipH="1" rot="21103800">
                    <a:off x="109440" y="961560"/>
                    <a:ext cx="603360" cy="480600"/>
                  </a:xfrm>
                  <a:prstGeom prst="ellipse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flipH="1" rot="21103800">
                    <a:off x="126720" y="974880"/>
                    <a:ext cx="569880" cy="454320"/>
                  </a:xfrm>
                  <a:prstGeom prst="ellipse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21960" y="1431000"/>
                  <a:ext cx="342000" cy="441000"/>
                  <a:chOff x="21960" y="1431000"/>
                  <a:chExt cx="342000" cy="4410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 flipH="1" rot="21103800">
                    <a:off x="45720" y="1470960"/>
                    <a:ext cx="29448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4" h="808">
                        <a:moveTo>
                          <a:pt x="0" y="60"/>
                        </a:moveTo>
                        <a:lnTo>
                          <a:pt x="400" y="808"/>
                        </a:lnTo>
                        <a:lnTo>
                          <a:pt x="564" y="725"/>
                        </a:lnTo>
                        <a:lnTo>
                          <a:pt x="162" y="0"/>
                        </a:lnTo>
                        <a:lnTo>
                          <a:pt x="0" y="6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H="1" rot="21103800">
                    <a:off x="227520" y="1437120"/>
                    <a:ext cx="9036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64" y="13933"/>
                        </a:moveTo>
                        <a:arcTo wR="10800" hR="10800" stAng="9788164" swAng="107767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64" y="13933"/>
                        </a:moveTo>
                        <a:arcTo wR="10800" hR="10800" stAng="9788164" swAng="10776769"/>
                      </a:path>
                    </a:pathLst>
                  </a:custGeom>
                  <a:solidFill>
                    <a:srgbClr val="5f3f1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rot="21103800">
                    <a:off x="224280" y="1442520"/>
                    <a:ext cx="9252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9" y="12019"/>
                        </a:moveTo>
                        <a:arcTo wR="10800" hR="10800" stAng="10411015" swAng="1005779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9" y="12019"/>
                        </a:moveTo>
                        <a:arcTo wR="10800" hR="10800" stAng="10411015" swAng="10057795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flipH="1" rot="21103800">
                    <a:off x="264960" y="1439280"/>
                    <a:ext cx="5616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07">
                        <a:moveTo>
                          <a:pt x="3" y="96"/>
                        </a:moveTo>
                        <a:lnTo>
                          <a:pt x="0" y="82"/>
                        </a:lnTo>
                        <a:lnTo>
                          <a:pt x="0" y="69"/>
                        </a:lnTo>
                        <a:lnTo>
                          <a:pt x="2" y="58"/>
                        </a:lnTo>
                        <a:lnTo>
                          <a:pt x="6" y="42"/>
                        </a:lnTo>
                        <a:lnTo>
                          <a:pt x="12" y="29"/>
                        </a:lnTo>
                        <a:lnTo>
                          <a:pt x="21" y="17"/>
                        </a:lnTo>
                        <a:lnTo>
                          <a:pt x="31" y="7"/>
                        </a:lnTo>
                        <a:lnTo>
                          <a:pt x="41" y="0"/>
                        </a:lnTo>
                        <a:lnTo>
                          <a:pt x="107" y="112"/>
                        </a:lnTo>
                        <a:lnTo>
                          <a:pt x="95" y="119"/>
                        </a:lnTo>
                        <a:lnTo>
                          <a:pt x="87" y="127"/>
                        </a:lnTo>
                        <a:lnTo>
                          <a:pt x="79" y="135"/>
                        </a:lnTo>
                        <a:lnTo>
                          <a:pt x="73" y="145"/>
                        </a:lnTo>
                        <a:lnTo>
                          <a:pt x="66" y="163"/>
                        </a:lnTo>
                        <a:lnTo>
                          <a:pt x="62" y="187"/>
                        </a:lnTo>
                        <a:lnTo>
                          <a:pt x="62" y="207"/>
                        </a:lnTo>
                        <a:lnTo>
                          <a:pt x="3" y="96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flipH="1" rot="21103800">
                    <a:off x="226800" y="1437480"/>
                    <a:ext cx="9108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94" y="13691"/>
                        </a:moveTo>
                        <a:arcTo wR="10800" hR="10800" stAng="9868244" swAng="50330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94" y="13691"/>
                        </a:moveTo>
                        <a:arcTo wR="10800" hR="10800" stAng="9868244" swAng="5033004"/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H="1" rot="21103800">
                    <a:off x="202320" y="1490760"/>
                    <a:ext cx="914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36" y="13474"/>
                        </a:moveTo>
                        <a:arcTo wR="10800" hR="10800" stAng="9939998" swAng="1061375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36" y="13474"/>
                        </a:moveTo>
                        <a:arcTo wR="10800" hR="10800" stAng="9939998" swAng="10613755"/>
                      </a:path>
                    </a:pathLst>
                  </a:custGeom>
                  <a:solidFill>
                    <a:srgbClr val="7f3f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191880" y="1492200"/>
                    <a:ext cx="104040" cy="91080"/>
                    <a:chOff x="191880" y="1492200"/>
                    <a:chExt cx="104040" cy="91080"/>
                  </a:xfrm>
                </p:grpSpPr>
                <p:grpSp>
                  <p:nvGrpSpPr>
                    <p:cNvPr id="128" name=""/>
                    <p:cNvGrpSpPr/>
                    <p:nvPr/>
                  </p:nvGrpSpPr>
                  <p:grpSpPr>
                    <a:xfrm>
                      <a:off x="195120" y="1492200"/>
                      <a:ext cx="100800" cy="82800"/>
                      <a:chOff x="195120" y="1492200"/>
                      <a:chExt cx="100800" cy="82800"/>
                    </a:xfrm>
                  </p:grpSpPr>
                  <p:sp>
                    <p:nvSpPr>
                      <p:cNvPr id="129" name=""/>
                      <p:cNvSpPr/>
                      <p:nvPr/>
                    </p:nvSpPr>
                    <p:spPr>
                      <a:xfrm flipH="1" rot="21103800">
                        <a:off x="199800" y="1498320"/>
                        <a:ext cx="9144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75" y="13220"/>
                            </a:moveTo>
                            <a:arcTo wR="10800" hR="10800" stAng="10022948" swAng="1071705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75" y="13220"/>
                            </a:moveTo>
                            <a:arcTo wR="10800" hR="10800" stAng="10022948" swAng="10717050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" name=""/>
                      <p:cNvSpPr/>
                      <p:nvPr/>
                    </p:nvSpPr>
                    <p:spPr>
                      <a:xfrm flipH="1" rot="21103800">
                        <a:off x="199800" y="1498680"/>
                        <a:ext cx="910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75" y="13220"/>
                            </a:moveTo>
                            <a:arcTo wR="10800" hR="10800" stAng="10022948" swAng="4465446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75" y="13220"/>
                            </a:moveTo>
                            <a:arcTo wR="10800" hR="10800" stAng="10022948" swAng="4465446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" name=""/>
                      <p:cNvSpPr/>
                      <p:nvPr/>
                    </p:nvSpPr>
                    <p:spPr>
                      <a:xfrm flipH="1" rot="21103800">
                        <a:off x="200520" y="1498320"/>
                        <a:ext cx="9000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69" y="13194"/>
                            </a:moveTo>
                            <a:arcTo wR="10800" hR="10800" stAng="10031485" swAng="1061516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69" y="13194"/>
                            </a:moveTo>
                            <a:arcTo wR="10800" hR="10800" stAng="10031485" swAng="10615168"/>
                          </a:path>
                        </a:pathLst>
                      </a:custGeom>
                      <a:noFill/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2" name=""/>
                    <p:cNvSpPr/>
                    <p:nvPr/>
                  </p:nvSpPr>
                  <p:spPr>
                    <a:xfrm flipH="1" rot="21103800">
                      <a:off x="195840" y="1506600"/>
                      <a:ext cx="9072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75" y="13220"/>
                          </a:moveTo>
                          <a:arcTo wR="10800" hR="10800" stAng="10022948" swAng="1063511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75" y="13220"/>
                          </a:moveTo>
                          <a:arcTo wR="10800" hR="10800" stAng="10022948" swAng="10635112"/>
                        </a:path>
                      </a:pathLst>
                    </a:custGeom>
                    <a:solidFill>
                      <a:srgbClr val="7f3f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85040" y="1508040"/>
                    <a:ext cx="104040" cy="91440"/>
                    <a:chOff x="185040" y="1508040"/>
                    <a:chExt cx="104040" cy="91440"/>
                  </a:xfrm>
                </p:grpSpPr>
                <p:grpSp>
                  <p:nvGrpSpPr>
                    <p:cNvPr id="134" name=""/>
                    <p:cNvGrpSpPr/>
                    <p:nvPr/>
                  </p:nvGrpSpPr>
                  <p:grpSpPr>
                    <a:xfrm>
                      <a:off x="188280" y="1508040"/>
                      <a:ext cx="100800" cy="83160"/>
                      <a:chOff x="188280" y="1508040"/>
                      <a:chExt cx="100800" cy="83160"/>
                    </a:xfrm>
                  </p:grpSpPr>
                  <p:sp>
                    <p:nvSpPr>
                      <p:cNvPr id="135" name=""/>
                      <p:cNvSpPr/>
                      <p:nvPr/>
                    </p:nvSpPr>
                    <p:spPr>
                      <a:xfrm flipH="1" rot="21103800">
                        <a:off x="192960" y="1514160"/>
                        <a:ext cx="90720" cy="70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04" y="12891"/>
                            </a:moveTo>
                            <a:arcTo wR="10800" hR="10800" stAng="10130033" swAng="1059946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04" y="12891"/>
                            </a:moveTo>
                            <a:arcTo wR="10800" hR="10800" stAng="10130033" swAng="10599462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" name=""/>
                      <p:cNvSpPr/>
                      <p:nvPr/>
                    </p:nvSpPr>
                    <p:spPr>
                      <a:xfrm flipH="1" rot="21103800">
                        <a:off x="192960" y="1514160"/>
                        <a:ext cx="91080" cy="7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04" y="12891"/>
                            </a:moveTo>
                            <a:arcTo wR="10800" hR="10800" stAng="10130033" swAng="434182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04" y="12891"/>
                            </a:moveTo>
                            <a:arcTo wR="10800" hR="10800" stAng="10130033" swAng="4341825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120" bIns="24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" name=""/>
                      <p:cNvSpPr/>
                      <p:nvPr/>
                    </p:nvSpPr>
                    <p:spPr>
                      <a:xfrm flipH="1" rot="21103800">
                        <a:off x="192960" y="1514160"/>
                        <a:ext cx="9144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75" y="13220"/>
                            </a:moveTo>
                            <a:arcTo wR="10800" hR="10800" stAng="10022948" swAng="1071705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75" y="13220"/>
                            </a:moveTo>
                            <a:arcTo wR="10800" hR="10800" stAng="10022948" swAng="10717050"/>
                          </a:path>
                        </a:pathLst>
                      </a:custGeom>
                      <a:noFill/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8" name=""/>
                    <p:cNvSpPr/>
                    <p:nvPr/>
                  </p:nvSpPr>
                  <p:spPr>
                    <a:xfrm flipH="1" rot="21103800">
                      <a:off x="189720" y="1522440"/>
                      <a:ext cx="90720" cy="7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57" y="13141"/>
                          </a:moveTo>
                          <a:arcTo wR="10800" hR="10800" stAng="10048788" swAng="1068070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57" y="13141"/>
                          </a:moveTo>
                          <a:arcTo wR="10800" hR="10800" stAng="10048788" swAng="10680707"/>
                        </a:path>
                      </a:pathLst>
                    </a:custGeom>
                    <a:solidFill>
                      <a:srgbClr val="7f3f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181080" y="1522800"/>
                    <a:ext cx="100440" cy="83160"/>
                    <a:chOff x="181080" y="1522800"/>
                    <a:chExt cx="100440" cy="8316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 flipH="1" rot="21103800">
                      <a:off x="186120" y="1528920"/>
                      <a:ext cx="9036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04" y="12891"/>
                          </a:moveTo>
                          <a:arcTo wR="10800" hR="10800" stAng="10130033" swAng="10701453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04" y="12891"/>
                          </a:moveTo>
                          <a:arcTo wR="10800" hR="10800" stAng="10130033" swAng="10701453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 flipH="1" rot="21103800">
                      <a:off x="185400" y="1528920"/>
                      <a:ext cx="91080" cy="7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04" y="12891"/>
                          </a:moveTo>
                          <a:arcTo wR="10800" hR="10800" stAng="10130033" swAng="434182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04" y="12891"/>
                          </a:moveTo>
                          <a:arcTo wR="10800" hR="10800" stAng="10130033" swAng="4341825"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2" name=""/>
                  <p:cNvGrpSpPr/>
                  <p:nvPr/>
                </p:nvGrpSpPr>
                <p:grpSpPr>
                  <a:xfrm>
                    <a:off x="177480" y="1522800"/>
                    <a:ext cx="104040" cy="91080"/>
                    <a:chOff x="177480" y="1522800"/>
                    <a:chExt cx="104040" cy="91080"/>
                  </a:xfrm>
                </p:grpSpPr>
                <p:sp>
                  <p:nvSpPr>
                    <p:cNvPr id="143" name=""/>
                    <p:cNvSpPr/>
                    <p:nvPr/>
                  </p:nvSpPr>
                  <p:spPr>
                    <a:xfrm flipH="1" rot="21103800">
                      <a:off x="184680" y="1528920"/>
                      <a:ext cx="9180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9" y="12963"/>
                          </a:moveTo>
                          <a:arcTo wR="10800" hR="10800" stAng="10106828" swAng="1063317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9" y="12963"/>
                          </a:moveTo>
                          <a:arcTo wR="10800" hR="10800" stAng="10106828" swAng="10633171"/>
                        </a:path>
                      </a:pathLst>
                    </a:custGeom>
                    <a:noFill/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 flipH="1" rot="21103800">
                      <a:off x="181440" y="1537200"/>
                      <a:ext cx="9072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04" y="12891"/>
                          </a:moveTo>
                          <a:arcTo wR="10800" hR="10800" stAng="10130033" swAng="1059946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04" y="12891"/>
                          </a:moveTo>
                          <a:arcTo wR="10800" hR="10800" stAng="10130033" swAng="10599462"/>
                        </a:path>
                      </a:pathLst>
                    </a:custGeom>
                    <a:solidFill>
                      <a:srgbClr val="7f3f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66240" y="1464840"/>
                    <a:ext cx="250920" cy="367200"/>
                    <a:chOff x="66240" y="1464840"/>
                    <a:chExt cx="250920" cy="36720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 flipH="1">
                      <a:off x="66240" y="1464840"/>
                      <a:ext cx="162720" cy="34056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 flipH="1">
                      <a:off x="156600" y="1477800"/>
                      <a:ext cx="160560" cy="3542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169920" y="1538280"/>
                    <a:ext cx="104040" cy="89640"/>
                    <a:chOff x="169920" y="1538280"/>
                    <a:chExt cx="104040" cy="89640"/>
                  </a:xfrm>
                </p:grpSpPr>
                <p:grpSp>
                  <p:nvGrpSpPr>
                    <p:cNvPr id="149" name=""/>
                    <p:cNvGrpSpPr/>
                    <p:nvPr/>
                  </p:nvGrpSpPr>
                  <p:grpSpPr>
                    <a:xfrm>
                      <a:off x="173520" y="1538280"/>
                      <a:ext cx="100080" cy="82440"/>
                      <a:chOff x="173520" y="1538280"/>
                      <a:chExt cx="100080" cy="82440"/>
                    </a:xfrm>
                  </p:grpSpPr>
                  <p:sp>
                    <p:nvSpPr>
                      <p:cNvPr id="150" name=""/>
                      <p:cNvSpPr/>
                      <p:nvPr/>
                    </p:nvSpPr>
                    <p:spPr>
                      <a:xfrm flipH="1" rot="21103800">
                        <a:off x="178560" y="1544400"/>
                        <a:ext cx="9036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58" y="12638"/>
                            </a:moveTo>
                            <a:arcTo wR="10800" hR="10800" stAng="10212044" swAng="1061944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58" y="12638"/>
                            </a:moveTo>
                            <a:arcTo wR="10800" hR="10800" stAng="10212044" swAng="10619442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 flipH="1" rot="21103800">
                        <a:off x="177840" y="1544400"/>
                        <a:ext cx="9108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58" y="12638"/>
                            </a:moveTo>
                            <a:arcTo wR="10800" hR="10800" stAng="10212044" swAng="425981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58" y="12638"/>
                            </a:moveTo>
                            <a:arcTo wR="10800" hR="10800" stAng="10212044" swAng="4259814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2" name=""/>
                    <p:cNvSpPr/>
                    <p:nvPr/>
                  </p:nvSpPr>
                  <p:spPr>
                    <a:xfrm flipH="1" rot="21103800">
                      <a:off x="177840" y="1544400"/>
                      <a:ext cx="9144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9" y="12963"/>
                          </a:moveTo>
                          <a:arcTo wR="10800" hR="10800" stAng="10106828" swAng="1071612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9" y="12963"/>
                          </a:moveTo>
                          <a:arcTo wR="10800" hR="10800" stAng="10106828" swAng="10716120"/>
                        </a:path>
                      </a:pathLst>
                    </a:custGeom>
                    <a:noFill/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 flipH="1" rot="21103800">
                      <a:off x="174240" y="1550880"/>
                      <a:ext cx="9180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336" y="13474"/>
                          </a:moveTo>
                          <a:arcTo wR="10800" hR="10800" stAng="9939998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336" y="13474"/>
                          </a:moveTo>
                          <a:arcTo wR="10800" hR="10800" stAng="9939998" swAng="10800000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" name=""/>
                  <p:cNvSpPr/>
                  <p:nvPr/>
                </p:nvSpPr>
                <p:spPr>
                  <a:xfrm flipH="1" rot="21103800">
                    <a:off x="100080" y="1557360"/>
                    <a:ext cx="18180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348" h="597">
                        <a:moveTo>
                          <a:pt x="44" y="0"/>
                        </a:moveTo>
                        <a:lnTo>
                          <a:pt x="31" y="8"/>
                        </a:lnTo>
                        <a:lnTo>
                          <a:pt x="21" y="16"/>
                        </a:lnTo>
                        <a:lnTo>
                          <a:pt x="12" y="26"/>
                        </a:lnTo>
                        <a:lnTo>
                          <a:pt x="8" y="36"/>
                        </a:lnTo>
                        <a:lnTo>
                          <a:pt x="4" y="47"/>
                        </a:lnTo>
                        <a:lnTo>
                          <a:pt x="1" y="58"/>
                        </a:lnTo>
                        <a:lnTo>
                          <a:pt x="0" y="71"/>
                        </a:lnTo>
                        <a:lnTo>
                          <a:pt x="0" y="86"/>
                        </a:lnTo>
                        <a:lnTo>
                          <a:pt x="270" y="597"/>
                        </a:lnTo>
                        <a:lnTo>
                          <a:pt x="348" y="543"/>
                        </a:lnTo>
                        <a:lnTo>
                          <a:pt x="44" y="0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 rot="21103800">
                    <a:off x="58320" y="1786320"/>
                    <a:ext cx="99360" cy="7848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 flipH="1" rot="21103800">
                  <a:off x="91080" y="1003680"/>
                  <a:ext cx="603000" cy="480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2658960" y="1198440"/>
                <a:ext cx="246240" cy="341280"/>
              </a:xfrm>
              <a:prstGeom prst="flowChartPunchedCar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101680" y="1425600"/>
                <a:ext cx="247680" cy="342720"/>
              </a:xfrm>
              <a:prstGeom prst="flowChartPunchedCar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668600" y="1198440"/>
                <a:ext cx="247680" cy="341280"/>
              </a:xfrm>
              <a:prstGeom prst="flowChartPunchedCar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12760" y="1368360"/>
                <a:ext cx="247680" cy="343080"/>
              </a:xfrm>
              <a:prstGeom prst="flowChartPunchedCar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27000" y="912960"/>
                <a:ext cx="247680" cy="342720"/>
              </a:xfrm>
              <a:prstGeom prst="flowChartPunchedCar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9600" y="1084320"/>
                <a:ext cx="185760" cy="284040"/>
              </a:xfrm>
              <a:prstGeom prst="flowChartPunchedCar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602080" y="1084320"/>
                <a:ext cx="3362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..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4" name=""/>
              <p:cNvCxnSpPr>
                <a:stCxn id="156" idx="2"/>
                <a:endCxn id="161" idx="1"/>
              </p:cNvCxnSpPr>
              <p:nvPr/>
            </p:nvCxnSpPr>
            <p:spPr>
              <a:xfrm flipV="1">
                <a:off x="690120" y="1083960"/>
                <a:ext cx="237240" cy="116640"/>
              </a:xfrm>
              <a:prstGeom prst="curvedConnector5">
                <a:avLst>
                  <a:gd name="adj1" fmla="val 56990"/>
                  <a:gd name="adj2" fmla="val 49845"/>
                  <a:gd name="adj3" fmla="val 5699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5" name=""/>
              <p:cNvCxnSpPr>
                <a:stCxn id="156" idx="3"/>
                <a:endCxn id="160" idx="1"/>
              </p:cNvCxnSpPr>
              <p:nvPr/>
            </p:nvCxnSpPr>
            <p:spPr>
              <a:xfrm flipH="1" rot="16200000">
                <a:off x="789480" y="1217160"/>
                <a:ext cx="159480" cy="48636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" name=""/>
              <p:cNvCxnSpPr>
                <a:stCxn id="160" idx="3"/>
                <a:endCxn id="159" idx="1"/>
              </p:cNvCxnSpPr>
              <p:nvPr/>
            </p:nvCxnSpPr>
            <p:spPr>
              <a:xfrm flipV="1">
                <a:off x="1360440" y="1369440"/>
                <a:ext cx="308880" cy="170280"/>
              </a:xfrm>
              <a:prstGeom prst="curvedConnector5">
                <a:avLst>
                  <a:gd name="adj1" fmla="val 49941"/>
                  <a:gd name="adj2" fmla="val 50000"/>
                  <a:gd name="adj3" fmla="val 49941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7" name=""/>
              <p:cNvCxnSpPr>
                <a:stCxn id="159" idx="3"/>
                <a:endCxn id="158" idx="1"/>
              </p:cNvCxnSpPr>
              <p:nvPr/>
            </p:nvCxnSpPr>
            <p:spPr>
              <a:xfrm>
                <a:off x="1915920" y="1370160"/>
                <a:ext cx="186120" cy="227520"/>
              </a:xfrm>
              <a:prstGeom prst="curvedConnector5">
                <a:avLst>
                  <a:gd name="adj1" fmla="val 49418"/>
                  <a:gd name="adj2" fmla="val 49920"/>
                  <a:gd name="adj3" fmla="val 4941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8" name=""/>
              <p:cNvCxnSpPr>
                <a:stCxn id="158" idx="2"/>
                <a:endCxn id="160" idx="2"/>
              </p:cNvCxnSpPr>
              <p:nvPr/>
            </p:nvCxnSpPr>
            <p:spPr>
              <a:xfrm flipV="1" rot="16200000">
                <a:off x="1702080" y="1244880"/>
                <a:ext cx="57600" cy="989280"/>
              </a:xfrm>
              <a:prstGeom prst="curvedConnector5">
                <a:avLst>
                  <a:gd name="adj1" fmla="val -235849"/>
                  <a:gd name="adj2" fmla="val 49981"/>
                  <a:gd name="adj3" fmla="val -235849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9" name=""/>
              <p:cNvCxnSpPr>
                <a:stCxn id="161" idx="3"/>
                <a:endCxn id="159" idx="0"/>
              </p:cNvCxnSpPr>
              <p:nvPr/>
            </p:nvCxnSpPr>
            <p:spPr>
              <a:xfrm>
                <a:off x="1174680" y="1083960"/>
                <a:ext cx="618480" cy="11484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0" name=""/>
              <p:cNvCxnSpPr>
                <a:stCxn id="159" idx="3"/>
                <a:endCxn id="157" idx="1"/>
              </p:cNvCxnSpPr>
              <p:nvPr/>
            </p:nvCxnSpPr>
            <p:spPr>
              <a:xfrm>
                <a:off x="1915920" y="1369800"/>
                <a:ext cx="743400" cy="108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1" name=""/>
              <p:cNvCxnSpPr>
                <a:stCxn id="157" idx="0"/>
                <a:endCxn id="159" idx="0"/>
              </p:cNvCxnSpPr>
              <p:nvPr/>
            </p:nvCxnSpPr>
            <p:spPr>
              <a:xfrm rot="5400000">
                <a:off x="2286000" y="703080"/>
                <a:ext cx="2520" cy="991080"/>
              </a:xfrm>
              <a:prstGeom prst="curvedConnector5">
                <a:avLst>
                  <a:gd name="adj1" fmla="val -14400000"/>
                  <a:gd name="adj2" fmla="val 50000"/>
                  <a:gd name="adj3" fmla="val -144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72" name=""/>
            <p:cNvSpPr/>
            <p:nvPr/>
          </p:nvSpPr>
          <p:spPr>
            <a:xfrm>
              <a:off x="228600" y="167652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6160" y="1905120"/>
              <a:ext cx="15202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ammel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(Crawlin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880" y="2347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371-ADE5-429C-A5B2-1F4E87B1AB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: Inhaltserschließ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4760" y="838080"/>
            <a:ext cx="7983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gang mit „unscharfen“ Daten (und „unscharfen“ Anfra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kumente werden typischerweise du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charakterisiert, z.B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örter, Wortpaare oder Phra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orthäufig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zahl eingehender Hyper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itle, weitere Tags, Struktur von HTML- oder XML-S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rbhäufigkeiten in Bildern (Bildmitte, oberer Rand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w. u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bbildung von natürlichsprachlichem Text auf Fea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handlung von morphologischer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handlung von Synonymen, Hypernymen/Hypony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Polysemen (u.a. mittels Thesaur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3CD-3D47-450B-B55C-678636D8CC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: Effektivität (Suchresultatsgü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5335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query = „Chernoff theorem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219320"/>
            <a:ext cx="1981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ltaVis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314960"/>
            <a:ext cx="1198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oo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20" y="5392800"/>
            <a:ext cx="1128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ah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1219320"/>
            <a:ext cx="74678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ermat's last theorem. Previous topic. Next topic. ...</a:t>
            </a:r>
            <a:br>
              <a:rPr sz="2400"/>
            </a:b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URL: www-groups.dcs.st-and.ac.uk/~history/His...st_theorem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281480"/>
            <a:ext cx="72392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40000"/>
                </a:solidFill>
                <a:latin typeface="Times New Roman"/>
              </a:rPr>
              <a:t>...strong convergence \cite{Chernoff}. \begin{theorem} \label{T1} Le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40000"/>
                </a:solidFill>
                <a:latin typeface="Times New Roman"/>
              </a:rPr>
              <a:t>http://mpej.unige.ch/mp_arc/p/00-2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5334120"/>
            <a:ext cx="7467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40000"/>
                </a:solidFill>
                <a:latin typeface="Times New Roman"/>
              </a:rPr>
              <a:t>Moment-generating Functions; Chernoff's Theorem; </a:t>
            </a:r>
            <a:r>
              <a:rPr b="0" lang="de-DE" sz="2400" spc="-1" strike="noStrike" u="sng">
                <a:solidFill>
                  <a:srgbClr val="040000"/>
                </a:solidFill>
                <a:uFillTx/>
                <a:latin typeface="Times New Roman"/>
              </a:rPr>
              <a:t>http://www.siam.org/catalog/mcc10/bahadur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0" y="6140520"/>
            <a:ext cx="1841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athsea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6172200"/>
            <a:ext cx="746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40000"/>
                </a:solidFill>
                <a:latin typeface="Times New Roman"/>
              </a:rPr>
              <a:t>No matches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0" y="2344680"/>
            <a:ext cx="2096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Northern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2362320"/>
            <a:ext cx="74678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. D. Biggins- Publications. Articles on the Branching Random 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 / www.shef.ac.uk/ ~st1jdb/ bibliog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502080"/>
            <a:ext cx="1096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xc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74240" y="3505320"/>
            <a:ext cx="6352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40000"/>
                </a:solidFill>
                <a:latin typeface="Times New Roman"/>
              </a:rPr>
              <a:t>The Official Web Site of Playboy Lingerie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40000"/>
                </a:solidFill>
                <a:latin typeface="Times New Roman"/>
              </a:rPr>
              <a:t>Mikki Chernoff  </a:t>
            </a:r>
            <a:r>
              <a:rPr b="0" lang="de-DE" sz="2400" spc="-1" strike="noStrike" u="sng">
                <a:solidFill>
                  <a:srgbClr val="040000"/>
                </a:solidFill>
                <a:uFillTx/>
                <a:latin typeface="Times New Roman"/>
              </a:rPr>
              <a:t>http://www.mikkichernoff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A10-7346-48C6-80C1-4AEA759E1B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95640" y="472428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!! A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411280" y="189000"/>
          <a:ext cx="6732720" cy="50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89000"/>
                    <a:ext cx="6732720" cy="50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Problem: Effizienz und Skalierbar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1120" y="836640"/>
            <a:ext cx="281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tuelle „Landkart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Web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7920" y="5229360"/>
            <a:ext cx="70495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chmaschinen überdecken das „Surface Web“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 Mrd. Dokumente, 20 T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meisten Daten sind im „Deep Web“ hinter Porta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500 Mrd. Dokumente, 8 P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0B4-C80D-4CAD-85D9-EE296C4A33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wertung der Retrieval-Güte (Effektivitä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8520" y="1295280"/>
            <a:ext cx="81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ähigkeit, zu einer Anfr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levante Dokumente zu liefer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6120" y="205740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Präzision (precision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505320" y="1905120"/>
                <a:ext cx="5295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nzah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levan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kument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n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p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32440" y="350532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Ausbeute (recall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76720" y="3297240"/>
          <a:ext cx="511164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297240"/>
                    <a:ext cx="511164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16720" y="2743200"/>
            <a:ext cx="80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ähigkeit, zu einer Anfr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levante Dokumente zu liefer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85800" y="4419720"/>
            <a:ext cx="9487080" cy="2440440"/>
            <a:chOff x="685800" y="4419720"/>
            <a:chExt cx="9487080" cy="2440440"/>
          </a:xfrm>
        </p:grpSpPr>
        <p:graphicFrame>
          <p:nvGraphicFramePr>
            <p:cNvPr id="206" name=""/>
            <p:cNvGraphicFramePr/>
            <p:nvPr/>
          </p:nvGraphicFramePr>
          <p:xfrm>
            <a:off x="1066680" y="4610160"/>
            <a:ext cx="4762800" cy="2247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4610160"/>
                      <a:ext cx="4762800" cy="22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8" name=""/>
            <p:cNvSpPr/>
            <p:nvPr/>
          </p:nvSpPr>
          <p:spPr>
            <a:xfrm>
              <a:off x="2209680" y="646128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usbe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285840" y="535284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äz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29520" y="441972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ische Gü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1" name=""/>
            <p:cNvGraphicFramePr/>
            <p:nvPr/>
          </p:nvGraphicFramePr>
          <p:xfrm>
            <a:off x="5410080" y="4610160"/>
            <a:ext cx="4762800" cy="2247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10080" y="4610160"/>
                      <a:ext cx="4762800" cy="22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" name=""/>
            <p:cNvSpPr/>
            <p:nvPr/>
          </p:nvSpPr>
          <p:spPr>
            <a:xfrm>
              <a:off x="6553080" y="646128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usbe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4552920" y="535284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äz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72200" y="4419720"/>
              <a:ext cx="16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deale Gü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844-1211-4095-8B1C-5619699808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4T12:25:44Z</dcterms:created>
  <dc:creator>ESCOM Edition</dc:creator>
  <dc:description/>
  <dc:language>en-US</dc:language>
  <cp:lastModifiedBy>weikum</cp:lastModifiedBy>
  <dcterms:modified xsi:type="dcterms:W3CDTF">2004-04-06T10:02:09Z</dcterms:modified>
  <cp:revision>308</cp:revision>
  <dc:subject/>
  <dc:title>Kein Folientitel</dc:title>
</cp:coreProperties>
</file>